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1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notesMasterIdLst>
    <p:notesMasterId r:id="rId28"/>
  </p:notes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  <p:sldId id="265" r:id="rId38"/>
    <p:sldId id="266" r:id="rId39"/>
    <p:sldId id="267" r:id="rId40"/>
    <p:sldId id="268" r:id="rId41"/>
    <p:sldId id="269" r:id="rId42"/>
    <p:sldId id="270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notesMaster" Target="notesMasters/notesMaster1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slide" Target="slides/slide10.xml"/><Relationship Id="rId39" Type="http://schemas.openxmlformats.org/officeDocument/2006/relationships/slide" Target="slides/slide11.xml"/><Relationship Id="rId40" Type="http://schemas.openxmlformats.org/officeDocument/2006/relationships/slide" Target="slides/slide12.xml"/><Relationship Id="rId41" Type="http://schemas.openxmlformats.org/officeDocument/2006/relationships/slide" Target="slides/slide13.xml"/><Relationship Id="rId42" Type="http://schemas.openxmlformats.org/officeDocument/2006/relationships/slide" Target="slides/slide14.xml"/><Relationship Id="rId43" Type="http://schemas.openxmlformats.org/officeDocument/2006/relationships/slide" Target="slides/slide15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7640" cy="400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3281400" cy="53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κεφαλίδα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 type="dt" idx="66"/>
          </p:nvPr>
        </p:nvSpPr>
        <p:spPr>
          <a:xfrm>
            <a:off x="4277880" y="0"/>
            <a:ext cx="3281400" cy="53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ημερομηνία/ώρα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PlaceHolder 5"/>
          <p:cNvSpPr>
            <a:spLocks noGrp="1"/>
          </p:cNvSpPr>
          <p:nvPr>
            <p:ph type="ftr" idx="67"/>
          </p:nvPr>
        </p:nvSpPr>
        <p:spPr>
          <a:xfrm>
            <a:off x="-36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υποσέλιδο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PlaceHolder 6"/>
          <p:cNvSpPr>
            <a:spLocks noGrp="1"/>
          </p:cNvSpPr>
          <p:nvPr>
            <p:ph type="sldNum" idx="68"/>
          </p:nvPr>
        </p:nvSpPr>
        <p:spPr>
          <a:xfrm>
            <a:off x="427788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A8E5E-137A-4B73-BDDD-A5FBBFFD6F62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C91D9-21F8-4B5B-9E3C-5C52683961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PlaceHolder 1"/>
          <p:cNvSpPr>
            <a:spLocks noGrp="1"/>
          </p:cNvSpPr>
          <p:nvPr>
            <p:ph type="sldImg"/>
          </p:nvPr>
        </p:nvSpPr>
        <p:spPr>
          <a:xfrm>
            <a:off x="1143000" y="69372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9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8640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2F5BE-4FEC-44C8-BA99-E8C1763BCF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PlaceHolder 1"/>
          <p:cNvSpPr>
            <a:spLocks noGrp="1"/>
          </p:cNvSpPr>
          <p:nvPr>
            <p:ph type="sldImg"/>
          </p:nvPr>
        </p:nvSpPr>
        <p:spPr>
          <a:xfrm>
            <a:off x="1143000" y="69372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2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8640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F7345-4DD4-4866-8393-F1824856B7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PlaceHolder 1"/>
          <p:cNvSpPr>
            <a:spLocks noGrp="1"/>
          </p:cNvSpPr>
          <p:nvPr>
            <p:ph type="sldImg"/>
          </p:nvPr>
        </p:nvSpPr>
        <p:spPr>
          <a:xfrm>
            <a:off x="1143000" y="69372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5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8640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DF094-AFA5-41EB-9CEE-72EAC70842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PlaceHolder 1"/>
          <p:cNvSpPr>
            <a:spLocks noGrp="1"/>
          </p:cNvSpPr>
          <p:nvPr>
            <p:ph type="sldImg"/>
          </p:nvPr>
        </p:nvSpPr>
        <p:spPr>
          <a:xfrm>
            <a:off x="1143000" y="69372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8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8640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79FE1-401E-4DB0-B2FD-EFC5AF5182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PlaceHolder 1"/>
          <p:cNvSpPr>
            <a:spLocks noGrp="1"/>
          </p:cNvSpPr>
          <p:nvPr>
            <p:ph type="sldImg"/>
          </p:nvPr>
        </p:nvSpPr>
        <p:spPr>
          <a:xfrm>
            <a:off x="1143000" y="69372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1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8640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515DB-8629-4F5F-9ECB-D1EF9A775C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4840" cy="3664080"/>
          </a:xfrm>
          <a:prstGeom prst="rect">
            <a:avLst/>
          </a:prstGeom>
          <a:ln w="0">
            <a:noFill/>
          </a:ln>
        </p:spPr>
      </p:sp>
      <p:sp>
        <p:nvSpPr>
          <p:cNvPr id="1205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64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BBE88-74FD-47A3-ABD8-D21173A618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PlaceHolder 1"/>
          <p:cNvSpPr>
            <a:spLocks noGrp="1"/>
          </p:cNvSpPr>
          <p:nvPr>
            <p:ph type="sldImg"/>
          </p:nvPr>
        </p:nvSpPr>
        <p:spPr>
          <a:xfrm>
            <a:off x="1143000" y="69372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8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8640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104B7-97E8-4C06-ACC7-DC1CFE5E1F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PlaceHolder 1"/>
          <p:cNvSpPr>
            <a:spLocks noGrp="1"/>
          </p:cNvSpPr>
          <p:nvPr>
            <p:ph type="sldImg"/>
          </p:nvPr>
        </p:nvSpPr>
        <p:spPr>
          <a:xfrm>
            <a:off x="1143000" y="69372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1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8640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64090-CBD7-4534-A46F-BE76D55D53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PlaceHolder 1"/>
          <p:cNvSpPr>
            <a:spLocks noGrp="1"/>
          </p:cNvSpPr>
          <p:nvPr>
            <p:ph type="sldImg"/>
          </p:nvPr>
        </p:nvSpPr>
        <p:spPr>
          <a:xfrm>
            <a:off x="1143000" y="69372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4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8640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381E9-FFE7-429F-B915-414E84D7FC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PlaceHolder 1"/>
          <p:cNvSpPr>
            <a:spLocks noGrp="1"/>
          </p:cNvSpPr>
          <p:nvPr>
            <p:ph type="sldImg"/>
          </p:nvPr>
        </p:nvSpPr>
        <p:spPr>
          <a:xfrm>
            <a:off x="1143000" y="69372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7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8640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D4859-1E10-4DA1-B963-74AEB8153B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PlaceHolder 1"/>
          <p:cNvSpPr>
            <a:spLocks noGrp="1"/>
          </p:cNvSpPr>
          <p:nvPr>
            <p:ph type="sldImg"/>
          </p:nvPr>
        </p:nvSpPr>
        <p:spPr>
          <a:xfrm>
            <a:off x="1143000" y="69372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0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8640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1BC34-7D90-48ED-BC65-96F37F1432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PlaceHolder 1"/>
          <p:cNvSpPr>
            <a:spLocks noGrp="1"/>
          </p:cNvSpPr>
          <p:nvPr>
            <p:ph type="sldImg"/>
          </p:nvPr>
        </p:nvSpPr>
        <p:spPr>
          <a:xfrm>
            <a:off x="1143000" y="69372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3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8640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PlaceHolder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C8523-74E5-4DE5-ADDF-6A918885E7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PlaceHolder 1"/>
          <p:cNvSpPr>
            <a:spLocks noGrp="1"/>
          </p:cNvSpPr>
          <p:nvPr>
            <p:ph type="sldImg"/>
          </p:nvPr>
        </p:nvSpPr>
        <p:spPr>
          <a:xfrm>
            <a:off x="1143000" y="69372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6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8640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C8735D-0425-477D-B262-E823627EB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2AE01D-3B05-4D99-ABD1-D2D881154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ED138E9-BF97-49FE-81D6-58D5504B3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3044B65-39C9-44C3-8033-ADB7E012C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457200" y="272880"/>
            <a:ext cx="82296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C6B08D0-7DCF-49D7-9C08-395CBF790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AF2E37E-4163-47FA-B5F0-D128CF0BA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E76C76B-37E5-4EFD-A34C-C11BB5B26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75A3DC2-539F-4FEC-9F8D-F91E73F21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8B45CD8-0263-4C55-95A4-F5CEE876B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3B82919-387A-4254-A00C-922EE8311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1AB6014-8749-4AF4-901C-BBEAB03C1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79581B2-3437-4351-8533-E30115A6F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355575-0724-4DA1-9A21-B93164E68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6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EA45F37-4128-45A5-B410-44837B738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6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B30EBEB-3610-4DCA-AE68-DD86CC3D4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74AC5CC-0545-49BA-AFD1-E8976D45A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35B8DA3-4B4B-46B5-A15E-7139790D5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ubTitle"/>
          </p:nvPr>
        </p:nvSpPr>
        <p:spPr>
          <a:xfrm>
            <a:off x="457200" y="272880"/>
            <a:ext cx="82296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F7BB1C9-6B6C-4B8B-AFAB-86D4AE0E5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288BACE-3B2B-4BF9-A89E-E04E1CA6D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FB2B62D-90E2-46F9-A85E-02D42EEF0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FB01252-4131-454F-8A36-C194E2289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F2C3AE4-B3A4-4B62-86CE-97D29A4A5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0E756B2-067A-4F8E-A3F5-DEBA27A85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167F19-CF44-4AA5-83C8-AF93C0A8D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4F6EE9B-FCCF-463E-8DF3-2108A5BD1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CCA63B8-ADA8-4502-A558-63226ACEC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6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16C8A14-7B2A-4051-93E8-F82893AFC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6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6A86B0D-8F90-4136-A3ED-EAB9B6D09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A0DE139-4712-479B-9B2F-CED58D681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5494611-5F53-43FE-A9E4-62511A1AD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457200" y="272880"/>
            <a:ext cx="82296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534748F-C88B-4562-B1AA-86A8492C3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47D22FC-D7F9-4AA0-89CE-7E7A15FE6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C0697F5-5AE8-4A9A-A7D8-37BF4F6CE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01485A4-6F81-4733-9472-44A9351E8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8542CD-BF46-41C0-BDBE-4DEC68ED1C9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D6F6E67-8423-461B-8F8F-50F199D5B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C133DAB-F164-47DF-81EC-0B2137F72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D9963FE-8835-417B-B2AE-FA09CE0D2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98535C4-DE2A-42A9-BAAB-623A4DEBC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6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8402D7D-0457-4C15-83FA-4548A84A2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6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3CDAD68-4824-442B-B59B-8CF6D3431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E40C1D5-9BBC-4B38-86B6-E0924CCF2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DBA5452-E03A-4824-91C9-AD40739DF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457200" y="272880"/>
            <a:ext cx="82296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A73EFD4-748E-4B1A-9718-DB74C4A71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ABF4EB0-1695-45CE-AF5E-9E12CB815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6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3CB61F-E439-4471-9FC4-27995B892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0B2E691-2BB9-4986-BE36-45B885C72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1B3CD6F-7ACA-470A-8EF8-6748F90B1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C04F51B-379D-4606-A7E9-399AE9C57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734D2F8-1E4C-4F5C-A832-2F69AEE02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F76A424-2472-4CAB-8CA3-742170A78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82368CE4-3BB6-4BE6-978E-D4417E22B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6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E8FF5791-8DBD-4E1C-8611-5ADA76FAB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6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F24320AF-EBE7-4F8C-B625-E5329244B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40718403-BB2F-4466-A67F-74292B35B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1C0024A3-EDD7-490E-A7A3-6087E7BCE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6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36E8A3-4B1C-4E6F-960A-E9764B46B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ubTitle"/>
          </p:nvPr>
        </p:nvSpPr>
        <p:spPr>
          <a:xfrm>
            <a:off x="457200" y="272880"/>
            <a:ext cx="82296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E32FB525-5E2D-4623-A348-141D893C7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C8D20BFA-C227-4237-B5AE-532097CE6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34F11B6F-3CBC-48EA-87A9-2D684BD2B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F79B1AE7-DD76-406A-9FB1-6A544CB2E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CF5BB745-710F-47E7-B0E2-6EE7C84A6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79B5F966-C69F-4D47-99CF-56359026D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23B079F6-A3BE-4904-8834-DC795BAED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F925D82D-99CA-4A0D-B135-E6845A39B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6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13903B9C-2F8E-4D4F-A8CA-7504C508E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6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2F753088-BF24-491A-93AE-3B2F20942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EDD585-8984-49E7-8C5C-9337E5C6B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DA7C336E-6EBB-45D0-AC14-E00DC0DF7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47FEE9B8-0C0D-45E7-9C2D-34CB102E8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457200" y="272880"/>
            <a:ext cx="82296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614541FA-6241-4B43-8AEA-F0CCCE710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2B735A0A-B718-4381-9F6B-796B85E47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895EB277-0347-4564-BA45-6AE0D3DE0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C393CA0C-5A53-409B-B0A6-B41C09F76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442D2F57-6BF5-429A-9DB2-2715EA832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7CE6D4BC-0C43-49A8-A353-1DAA5375B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A074C1D3-820D-48AE-BF8D-93DAB7F80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071B0F6-0EF6-436E-AF30-72625C6C5A3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CA062D-AD7C-4282-A89D-4BFF08D4C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6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286BDFC-F2FF-425D-8602-8BFF21E1A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6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E51DF4B-3D56-4167-968E-88B4CA3D0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D0847A4-5C3C-4964-A97E-2EDBF4F52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FA26B89-1898-4F3E-A2F6-5F14FDC52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ubTitle"/>
          </p:nvPr>
        </p:nvSpPr>
        <p:spPr>
          <a:xfrm>
            <a:off x="457200" y="272880"/>
            <a:ext cx="82296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CA3D3A1-A449-4F36-A712-306401E50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CF93D62-68DD-405B-BA4C-3683F8018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F46A0EC-6A9A-400B-909F-02FDBEC13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6E97FFC-84D7-4C12-9320-A6ACFBB9F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23AD495-C8E1-4C8B-AC58-4D6659C37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51C0888-0F44-4ACE-B49F-291A72E25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2880"/>
            <a:ext cx="82296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347731-6549-4813-8298-FD47B1956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B3C2BC1-E45F-4D9A-9E10-FA88F8ABB79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6313092F-ABDA-47A4-8DAB-C6E3D5044D7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6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09E44D69-9382-4BC0-B995-03DD5FFA8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6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F0E73AEB-E29E-47B7-8ADD-A592B7078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18B9D1F0-C91B-439B-9FC0-07084B6B5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BA2D8AEF-5104-42E3-8E4B-DC88F63C0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subTitle"/>
          </p:nvPr>
        </p:nvSpPr>
        <p:spPr>
          <a:xfrm>
            <a:off x="457200" y="272880"/>
            <a:ext cx="82296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39B2C554-3F30-42AC-814E-EEB894367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7CB2BE1F-E801-4B52-B823-800C2CBF7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7F165C4C-92E5-4A2C-A8ED-65525CB75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C5E0EF5A-BAEC-4458-B94B-14E865F08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E830E9-D701-4143-AEF5-00138251D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E27BEF07-459A-4857-A6FE-D38FC2926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40F3C11A-3163-466E-AB5A-C9881228F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9CBA97CE-6EC0-437D-AD34-AD2D97FBF7D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53FCCC0D-F11B-47E8-9694-CCF44944EB4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6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3D200CE2-5663-4C5A-8256-2085319C7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6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BD1B9E2F-7A11-45CD-9DAD-B3590F18A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F1081089-BE23-48B5-BB48-FBF5BF7C4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5B907020-5EDA-4628-9740-1B514BBEB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subTitle"/>
          </p:nvPr>
        </p:nvSpPr>
        <p:spPr>
          <a:xfrm>
            <a:off x="457200" y="272880"/>
            <a:ext cx="82296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FCFF20AD-DD88-4571-BE74-01A23BC65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500A0844-68F7-4A11-AB72-A1A0DC47B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6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AE117E-9C3C-4E5C-9A60-10DBADDC9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FF76D2-5F4D-4EB0-A0E3-A852B289E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F2558D56-436A-410A-9ED3-11E8C90E4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C123B3C0-372C-407A-A8A8-4537E2745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851B84AB-48BE-4C80-BF73-A4CCCB879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E5BAC58C-4BF8-472B-8027-C294E080E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4BCC7740-E682-4DFB-9178-07FEE016384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248649C-128E-40D9-BC07-D53F3E19970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6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5A38B10-3E9F-4983-8526-B982DE59C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6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865DEF3-F607-4D3F-8580-807177FB2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64CB862-2B0E-4F02-A504-4243574E3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7F7F7E1-3FEE-4B65-B4F0-1A55E88F8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8E9969-64D1-4CAF-BF5B-1E1624571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subTitle"/>
          </p:nvPr>
        </p:nvSpPr>
        <p:spPr>
          <a:xfrm>
            <a:off x="457200" y="272880"/>
            <a:ext cx="82296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803AD57-E931-4D3C-AE73-033600B4C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E15D59C-A529-46B1-B8F4-8FF692D36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5E9CBEF-2886-4F94-A592-F4AD85B32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B792F7D-7B70-4475-9BD1-97B98E52A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5BEE832-2C00-4588-9BC8-32DE0BE2D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8347ABB-5FE6-4FCF-91C4-D96E0435B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65D3907-4851-4620-8132-84F87CF31AE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6BF9D681-D998-40FF-B663-E4683E1B3DC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6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B13D9393-A72D-4F7D-9BEE-6C5F0C3EA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6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B831A36B-5978-4A47-AF0B-DF20D5F56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B864E9-2FD1-407E-A3CA-D79ECCD39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764C75C9-12FA-4218-98F7-EFB7265C8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3D824970-46F4-42A7-8A96-DF5751428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subTitle"/>
          </p:nvPr>
        </p:nvSpPr>
        <p:spPr>
          <a:xfrm>
            <a:off x="457200" y="272880"/>
            <a:ext cx="82296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0C3DD053-322C-4A79-B479-E163C5C0F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37655AF4-099F-4D09-AF7C-71B981AED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C8A6F764-8225-413B-B34C-45339F0D7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6CCAF51C-98A9-45DA-8E59-7E1C7971A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8688A13D-4E5E-4758-B386-8865356EC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81DFCF22-EC8F-4257-9F5E-5BAF1BA50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61E6E10F-2E45-422C-B3F9-6139A7ACDE6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A427ED68-BF24-4E6F-97A7-9DA437F8A21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96FAFD-8A90-4761-851A-6AFA1F123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6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7FA5A656-A496-4C0B-88E2-AF07F334F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6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9F4542FE-52EC-4B20-ACB5-85648508C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F7CFD3D7-9BF6-4EF9-9ABC-8DE8AC579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1FCDD734-9737-4B3D-8651-CFF43BF00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subTitle"/>
          </p:nvPr>
        </p:nvSpPr>
        <p:spPr>
          <a:xfrm>
            <a:off x="457200" y="272880"/>
            <a:ext cx="82296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DE19BF7B-AD99-4567-AEB3-878CFF739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B9936661-DEC6-4FBF-A8E5-0899A674D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A157074D-46C6-4F1A-A349-2020C71F6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2BB827ED-AD23-4D00-A1E7-B6EAE5B34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3058AD10-4214-4E2F-8877-3AAE15CD3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E76B7E82-DD0F-479F-A1E4-61E6E3F7D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E09751-16D6-41B0-AE1C-030C645E2F2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8677BB08-76BD-469A-AC4F-73FC77F4ACC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278A46B-57E0-4EC6-9732-50E9B2DE62F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6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AA7B1F3-E368-483B-B08D-1E3B83E3D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6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007E45A-A15D-4446-9837-A45006C90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22A8002-E093-4936-A77B-906460DA4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0322E92-27CD-4C8D-A1ED-EFFABB473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subTitle"/>
          </p:nvPr>
        </p:nvSpPr>
        <p:spPr>
          <a:xfrm>
            <a:off x="457200" y="272880"/>
            <a:ext cx="82296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672010B-D97C-4166-9A07-EC1F4C514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B992ECA-DC6E-46E0-BDC9-E617711B6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B2302CA-F072-4857-A208-988FB5973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15BA355-CDA9-4A7F-9013-B773E6E48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6923917-D125-46B6-85CC-BC2789818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97EAE08-21A4-46E7-94E5-3B5EA2DA1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9E1086E-64C2-4E2D-958C-C7A00629F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129A8EF-6751-4816-BF5D-9E5ACBEAA70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961AEC2E-4B8E-4764-9261-726216B9C02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6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A3B28F5E-9B21-4AE7-B570-CF2A0864B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6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B6BCAB31-5D46-40EB-A111-1A7554197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364AF77B-4822-43A9-92D0-AE4154227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B20AA8AC-5ED9-40CA-8928-D23898622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subTitle"/>
          </p:nvPr>
        </p:nvSpPr>
        <p:spPr>
          <a:xfrm>
            <a:off x="457200" y="272880"/>
            <a:ext cx="82296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C635F9FF-1E70-4B86-8A38-083FCADDA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03B1AC1B-87CF-4690-84A0-2282BD4BA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6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6DB17CE-0BE3-4580-902F-0CD5D6E4B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3DEF489F-BDDB-481D-94FB-39C0FB864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3C135D63-B1E7-459C-AC80-9238A3846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10CC4266-73A1-466A-A92B-31747653D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FA7FFBA5-8312-46F9-B807-553EACBD3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96BB13FB-A181-431F-BF17-108D9211C24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65A3C0E9-8A0C-4D44-A4F2-570D9D8450E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6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3D4A23B3-A8A7-4676-98ED-43DEED0B9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6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287A4639-1895-4A6F-8497-DBD12AA66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AB7FDACA-32C6-4920-8D02-00ECCEC9E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DD5B973B-A856-47B7-8C15-5672D6DAF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6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2B88BA9-E2F7-4E1B-812C-378D7EAAF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subTitle"/>
          </p:nvPr>
        </p:nvSpPr>
        <p:spPr>
          <a:xfrm>
            <a:off x="457200" y="272880"/>
            <a:ext cx="82296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B9892433-2E3C-4F51-93F0-EFDF1157D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29ED7CEE-73FB-48F9-8A05-E04B500F0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3DEC45F7-3290-47C9-8DDB-C5C08063D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BB502DDC-F1BC-4C6E-94CE-6995CBCF8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A5F0EA88-524A-4118-815D-BDE0E9D0A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D7F0E5D1-316E-48A9-A095-BF319F247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4940E2FC-9A58-4C2F-9161-28584C098CC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091726E-F1A3-48CC-B854-E7516D2B755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6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7540F4D-6435-4964-BB87-E394FC694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6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46462FC-30B7-4B4E-A6A8-51C1F55F5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E18E660-568E-45ED-9564-CBB6E1423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C3A7606-7434-4B96-9F16-1D99FE4FA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89635B8-56BF-4CDC-A45C-9EDE834D9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subTitle"/>
          </p:nvPr>
        </p:nvSpPr>
        <p:spPr>
          <a:xfrm>
            <a:off x="457200" y="272880"/>
            <a:ext cx="82296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AE0181F-C171-4BBF-B4B0-7B674ACB0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728A14E-FDB8-40BC-A552-D307A0182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7E0F5EB-56D9-40B8-8D5C-ED19E68F1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52939EA-E770-4696-B747-FAD52A404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068896D-71ED-4404-B0F4-D1A046545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56D2941-145D-4337-AA1C-9FFD12F9D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7029714-3005-4014-B943-8CCB0375CC9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21486391-C925-458A-BF69-99292566E98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C564907-DFF7-4948-AEE0-5E59A6286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6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EAC62769-00DC-4A63-8A3E-4E5E65616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6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BDF288C0-9415-4109-A477-D9F5EC33A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ACDEE119-0A84-4F70-ACF5-BA699DB1F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A1FA5D88-502A-455C-B7A0-CB8A1F7BE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subTitle"/>
          </p:nvPr>
        </p:nvSpPr>
        <p:spPr>
          <a:xfrm>
            <a:off x="457200" y="272880"/>
            <a:ext cx="82296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2DF76739-7DFD-4FE1-B563-AE4974563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BA0400FD-0965-4927-8D33-8BF0A9B93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9B330344-7E07-4922-934C-52519E786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01106BF2-E9CF-4023-B1DE-2B502B4C9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117946C2-286B-4C44-9AD6-F97B3D87B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BAEDB1FE-66BD-49BA-9E7C-9C52AD435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6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BAC3B2-43CD-4A10-A6B3-9F3E63D1B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2880"/>
            <a:ext cx="82296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BB2B627-38DA-4ED9-B6EA-8DEB2E708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EA3A9109-EEEB-4336-A545-5BB75FEC106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892957E0-2319-4031-ABF2-86D0501A305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6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F851A960-8024-4829-95B7-45BA2070A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6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464B85D7-74AD-476E-9BBB-0DB26CFFF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A8F47938-CC9D-4031-A2BA-F27566218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D2FC65C3-5F62-426D-BC34-D66740402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subTitle"/>
          </p:nvPr>
        </p:nvSpPr>
        <p:spPr>
          <a:xfrm>
            <a:off x="457200" y="272880"/>
            <a:ext cx="82296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58B1F4E8-7406-468D-AE71-DA318F36F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C8247743-AE1D-4738-A68E-50E894021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0275A8A2-F8C1-4742-807F-F69270CD5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81913172-8AFB-4555-AEF3-D84C2A8EB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FE14633-14E2-433D-A984-45C1FF7E2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573F866A-0CF5-4889-B0F2-23E654973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9B029048-F52B-48AA-8948-38D9FD15F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D6E5C686-5DBA-4E74-A46A-04FBB06B6D0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095D8F6-7C54-42A1-BED6-1739FE56B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75F8507-E516-40A0-8670-8CDC70B2E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C06463B-89B2-4075-9C41-52BFBD55F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D35463D-0234-4676-85B6-16647A964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623D1A4-6E6F-4615-AA6A-8D423068A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32D94E9-51F5-4E30-A74A-B12D81C43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6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90B02B2-5A78-41FA-AAE7-BB54F68CC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6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993BA3F-91BA-42DF-97BD-2AC95B5C4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102AED-D7E8-4690-8316-41A14DCBB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BE54718-6B71-4F68-AA08-132A40047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74EF683-0DEB-4F87-8697-183A166BE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2880"/>
            <a:ext cx="82296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BF2A728-704A-4782-8ADB-FE317A25B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25F69D4-1337-44A4-9FF0-152073C2B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60BA37A-F134-4583-A5A3-167538EC5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E4553D2-C67E-4DC2-B040-1E8EDCEDE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B842425-8A68-4872-AE4F-1DB1166D5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00FACD0-F1DE-40C8-BC31-310DAA05B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97D9837-220F-4D8D-8ADC-1BC6E04BC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A431DCD-35BC-4ED5-9ABC-6DAE097D8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FB9136-23BA-4645-89CA-0E5C81FF8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6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A1A3640-68AF-4763-994B-69DAF796C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6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5CC95EC-AEEA-4726-A2C7-8E1592172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503B145-3052-4663-BA68-5EF4FF83B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4E739E5-E959-49E9-BCC1-A25F1A0B6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272880"/>
            <a:ext cx="82296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BE3B981-5C84-4AE7-BB75-58FE4C007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960BDEA-6EF9-4C05-8DEF-D7BA51A5C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1EA9054-0087-4F89-9377-1CF2EAA8E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D74E606-24E7-4FBF-9706-06ADCF529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CA883F2-10EA-4CE0-827E-C36F52232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32D48EE-C918-4C83-B1A5-962F3447B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2880"/>
            <a:ext cx="82296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F184A2-5E6A-4287-B8C9-411B65E65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2E9A2CD-0F6D-46E9-9BC9-98D9A79D7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E06E07E-A687-44AF-AE08-F6EE92745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6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3C60C57-F632-4259-9FD0-33270AEF1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6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0301620-E353-4FDE-947F-44A14D46D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B7E1CF8-D926-491A-8195-66C3CC77B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C9042E2-EBC9-467C-B673-051ACE008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272880"/>
            <a:ext cx="82296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46587F2-AF40-4249-979A-A8164F958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F4AFE6A-6167-4B4E-BA49-CD2521D6F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C20583C-537F-4D69-B5F0-F0C606455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452B153-2EAC-4087-9A47-B048D4996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18F124-3DB1-4FAC-BC5C-2A8A01F98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3B331C9-6CC0-44A1-B3FB-812BC0F80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E2D7360-4C21-48A5-B18A-B190E7576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E877C78-8654-45A1-AA91-1241AB430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4FED9B3-BFAC-44D9-8B0C-C62B3435B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6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12F4DFE-6A03-483B-8038-D6B16280D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6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F7DDB05-63A8-4D48-BB8B-FA6082B49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58EA551-EB39-4CED-AC89-7648F0BEC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0397B0D-6886-40E2-B5B9-B3207D871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457200" y="272880"/>
            <a:ext cx="82296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E71BE43-9A3B-4D52-AD88-9B9890776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4CC0B8E-D6D1-4C6F-9C1C-74131040A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AE6CCD-5B1B-4931-85D9-8BF4387F4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3C7CFD4-FA56-4801-A7AF-4D2867B2E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EB8A258-BD3E-4774-9F7C-086028525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91A6EDB-D43E-475B-8255-D19DDDB1F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6CA4CF0-2A1C-4603-80E4-9ABB35969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9FAE052-6228-4304-968D-F52EBDD46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6B2F426-5254-42E3-8DA6-119C4E80E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6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FFC9F37-C4FC-42FA-85FE-72795E426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6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641EE05-DCB0-4525-904B-9F973C6C9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1E86FFC-C8F8-456F-8AD8-FDF829410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F89C53A-65DB-499A-BBA7-3CCC508C4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BD2004-E748-40B6-A7F5-EC6DB3903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457200" y="272880"/>
            <a:ext cx="82296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EE45D5C-D1B7-4A22-98C6-15EDF1189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93EEB76-FDA1-4BE4-936B-933AB971F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7FD01DA-1AF2-4796-BC7B-9DF08E158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19130A6-CBCB-4694-959C-2189EC7B4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0936543-2B5C-44EE-A2D8-F6ED9A990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4347668-99A5-4DAB-8FE0-C8CF21BD8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B5B9178-95DE-4857-AA14-098FC1918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FD96873-ACCB-440D-90CA-CAFB8B364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6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C9B708C-D845-4A6D-93A4-302B06B2A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6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8387DBD-1A90-425E-AAF3-C12F7F0AA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3720" y="6356520"/>
            <a:ext cx="289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υποσέλιδο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C7FE9-5B8C-4B36-9FB1-C725A486A1BB}" type="slidenum">
              <a:rPr b="0" lang="el-GR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ημερομηνία/ώρα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6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6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 type="ftr" idx="27"/>
          </p:nvPr>
        </p:nvSpPr>
        <p:spPr>
          <a:xfrm>
            <a:off x="3123720" y="6356520"/>
            <a:ext cx="289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Foo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 type="sldNum" idx="2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876A7-EC62-4C7F-A2C0-E22ECC40DA42}" type="slidenum">
              <a:rPr b="0" lang="el-GR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 type="dt" idx="2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6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 type="ftr" idx="30"/>
          </p:nvPr>
        </p:nvSpPr>
        <p:spPr>
          <a:xfrm>
            <a:off x="3123720" y="6356520"/>
            <a:ext cx="289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Foo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 type="sldNum" idx="3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65571-EB8C-499C-AAB2-94CF73563321}" type="slidenum">
              <a:rPr b="0" lang="el-GR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 type="dt" idx="3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6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 type="ftr" idx="33"/>
          </p:nvPr>
        </p:nvSpPr>
        <p:spPr>
          <a:xfrm>
            <a:off x="3123720" y="6356520"/>
            <a:ext cx="289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Foo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 type="sldNum" idx="3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8DE8A-6BAA-4A19-9514-4F7F58F05C3C}" type="slidenum">
              <a:rPr b="0" lang="el-GR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 type="dt" idx="3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6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 type="ftr" idx="36"/>
          </p:nvPr>
        </p:nvSpPr>
        <p:spPr>
          <a:xfrm>
            <a:off x="3123720" y="6356520"/>
            <a:ext cx="289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Foo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 type="sldNum" idx="3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FA9EA-9CD8-4964-959D-A629BBFD0B3E}" type="slidenum">
              <a:rPr b="0" lang="el-GR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 type="dt" idx="3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6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 type="ftr" idx="39"/>
          </p:nvPr>
        </p:nvSpPr>
        <p:spPr>
          <a:xfrm>
            <a:off x="3123720" y="6356520"/>
            <a:ext cx="289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Foo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 type="sldNum" idx="4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9484D-B010-4FDD-A3BC-5E47765BD277}" type="slidenum">
              <a:rPr b="0" lang="el-GR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 type="dt" idx="4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6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 type="sldNum" idx="42"/>
          </p:nvPr>
        </p:nvSpPr>
        <p:spPr>
          <a:xfrm>
            <a:off x="6553080" y="6356160"/>
            <a:ext cx="21304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FC750-9CEE-4A78-B8B5-5F1948AC477B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 type="dt" idx="43"/>
          </p:nvPr>
        </p:nvSpPr>
        <p:spPr>
          <a:xfrm>
            <a:off x="457200" y="6356160"/>
            <a:ext cx="21304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6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 type="sldNum" idx="44"/>
          </p:nvPr>
        </p:nvSpPr>
        <p:spPr>
          <a:xfrm>
            <a:off x="6553080" y="6356160"/>
            <a:ext cx="21304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F18E0-2867-4A5E-8F95-2D6D18D28307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 type="dt" idx="45"/>
          </p:nvPr>
        </p:nvSpPr>
        <p:spPr>
          <a:xfrm>
            <a:off x="457200" y="6356160"/>
            <a:ext cx="21304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6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 type="sldNum" idx="46"/>
          </p:nvPr>
        </p:nvSpPr>
        <p:spPr>
          <a:xfrm>
            <a:off x="6553080" y="6356160"/>
            <a:ext cx="21304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979E0-9D7F-4CE4-A95A-D2008623DCCF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 type="dt" idx="47"/>
          </p:nvPr>
        </p:nvSpPr>
        <p:spPr>
          <a:xfrm>
            <a:off x="457200" y="6356160"/>
            <a:ext cx="21304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6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 type="sldNum" idx="48"/>
          </p:nvPr>
        </p:nvSpPr>
        <p:spPr>
          <a:xfrm>
            <a:off x="6553080" y="6356160"/>
            <a:ext cx="21304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4F261-B6E4-407B-91A3-D41D9242BB4E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 type="dt" idx="49"/>
          </p:nvPr>
        </p:nvSpPr>
        <p:spPr>
          <a:xfrm>
            <a:off x="457200" y="6356160"/>
            <a:ext cx="21304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6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 type="sldNum" idx="50"/>
          </p:nvPr>
        </p:nvSpPr>
        <p:spPr>
          <a:xfrm>
            <a:off x="6553080" y="6356160"/>
            <a:ext cx="21304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59ACC-8CCA-4CAF-8FAC-8CDFA4594636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 type="dt" idx="51"/>
          </p:nvPr>
        </p:nvSpPr>
        <p:spPr>
          <a:xfrm>
            <a:off x="457200" y="6356160"/>
            <a:ext cx="21304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ldNum" idx="4"/>
          </p:nvPr>
        </p:nvSpPr>
        <p:spPr>
          <a:xfrm>
            <a:off x="6553080" y="6356160"/>
            <a:ext cx="21304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D0DCB-95C2-45A7-8B84-4EF87DFD6E19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5"/>
          </p:nvPr>
        </p:nvSpPr>
        <p:spPr>
          <a:xfrm>
            <a:off x="457200" y="6356160"/>
            <a:ext cx="21304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ημερομηνία/ώρα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6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6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 type="sldNum" idx="52"/>
          </p:nvPr>
        </p:nvSpPr>
        <p:spPr>
          <a:xfrm>
            <a:off x="6553080" y="6356160"/>
            <a:ext cx="21304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63188-272D-4B38-98FB-0A3E7FF1A7C7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 type="dt" idx="53"/>
          </p:nvPr>
        </p:nvSpPr>
        <p:spPr>
          <a:xfrm>
            <a:off x="457200" y="6356160"/>
            <a:ext cx="21304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6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 type="sldNum" idx="54"/>
          </p:nvPr>
        </p:nvSpPr>
        <p:spPr>
          <a:xfrm>
            <a:off x="6553080" y="6356160"/>
            <a:ext cx="21304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CD4E1-7E08-4F0C-BA31-F6C7B530ED31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 type="dt" idx="55"/>
          </p:nvPr>
        </p:nvSpPr>
        <p:spPr>
          <a:xfrm>
            <a:off x="457200" y="6356160"/>
            <a:ext cx="21304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6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 type="sldNum" idx="56"/>
          </p:nvPr>
        </p:nvSpPr>
        <p:spPr>
          <a:xfrm>
            <a:off x="6553080" y="6356160"/>
            <a:ext cx="21304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64EDC-48E7-4798-9430-5C1912771559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 type="dt" idx="57"/>
          </p:nvPr>
        </p:nvSpPr>
        <p:spPr>
          <a:xfrm>
            <a:off x="457200" y="6356160"/>
            <a:ext cx="21304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6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 type="sldNum" idx="58"/>
          </p:nvPr>
        </p:nvSpPr>
        <p:spPr>
          <a:xfrm>
            <a:off x="6553080" y="6356160"/>
            <a:ext cx="21304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04346-7452-4A84-84FE-1F2FEEBF9BFC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 type="dt" idx="59"/>
          </p:nvPr>
        </p:nvSpPr>
        <p:spPr>
          <a:xfrm>
            <a:off x="457200" y="6356160"/>
            <a:ext cx="21304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6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 type="sldNum" idx="60"/>
          </p:nvPr>
        </p:nvSpPr>
        <p:spPr>
          <a:xfrm>
            <a:off x="6553080" y="6356160"/>
            <a:ext cx="21304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CA83E-34B5-4CCD-A24F-DEB939F1450B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 type="dt" idx="61"/>
          </p:nvPr>
        </p:nvSpPr>
        <p:spPr>
          <a:xfrm>
            <a:off x="457200" y="6356160"/>
            <a:ext cx="21304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6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 type="sldNum" idx="62"/>
          </p:nvPr>
        </p:nvSpPr>
        <p:spPr>
          <a:xfrm>
            <a:off x="6553080" y="6356160"/>
            <a:ext cx="21304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F8059-96AC-4C58-93DC-44E32E888458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 type="dt" idx="63"/>
          </p:nvPr>
        </p:nvSpPr>
        <p:spPr>
          <a:xfrm>
            <a:off x="457200" y="6356160"/>
            <a:ext cx="21304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6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 type="sldNum" idx="64"/>
          </p:nvPr>
        </p:nvSpPr>
        <p:spPr>
          <a:xfrm>
            <a:off x="6553080" y="6356160"/>
            <a:ext cx="21304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5F0EC-0BE1-4259-8444-01CB6EE32EC5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 type="dt" idx="65"/>
          </p:nvPr>
        </p:nvSpPr>
        <p:spPr>
          <a:xfrm>
            <a:off x="457200" y="6356160"/>
            <a:ext cx="21304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6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ftr" idx="6"/>
          </p:nvPr>
        </p:nvSpPr>
        <p:spPr>
          <a:xfrm>
            <a:off x="3123720" y="6356520"/>
            <a:ext cx="289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Foo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0BD38-038F-405E-B781-DC20A182B0DE}" type="slidenum">
              <a:rPr b="0" lang="el-GR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dt" idx="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6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ftr" idx="9"/>
          </p:nvPr>
        </p:nvSpPr>
        <p:spPr>
          <a:xfrm>
            <a:off x="3123720" y="6356520"/>
            <a:ext cx="289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Foo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sldNum" idx="1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2110F-E585-43A8-978C-F75B39603CB2}" type="slidenum">
              <a:rPr b="0" lang="el-GR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dt" idx="1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6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ftr" idx="12"/>
          </p:nvPr>
        </p:nvSpPr>
        <p:spPr>
          <a:xfrm>
            <a:off x="3123720" y="6356520"/>
            <a:ext cx="289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Foo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sldNum" idx="1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38AF5-8AFB-4911-8E61-BD6454165880}" type="slidenum">
              <a:rPr b="0" lang="el-GR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dt" idx="1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6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ftr" idx="15"/>
          </p:nvPr>
        </p:nvSpPr>
        <p:spPr>
          <a:xfrm>
            <a:off x="3123720" y="6356520"/>
            <a:ext cx="289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Foo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sldNum" idx="1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5FF0B-9B6C-4D7B-8404-5AE6F11F12B1}" type="slidenum">
              <a:rPr b="0" lang="el-GR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dt" idx="1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6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 type="ftr" idx="18"/>
          </p:nvPr>
        </p:nvSpPr>
        <p:spPr>
          <a:xfrm>
            <a:off x="3123720" y="6356520"/>
            <a:ext cx="289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Foo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 type="sldNum" idx="1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10EE6-A075-4CCB-9CA3-E0F1E592078D}" type="slidenum">
              <a:rPr b="0" lang="el-GR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 type="dt" idx="2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6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 type="ftr" idx="21"/>
          </p:nvPr>
        </p:nvSpPr>
        <p:spPr>
          <a:xfrm>
            <a:off x="3123720" y="6356520"/>
            <a:ext cx="289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Foo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 type="sldNum" idx="2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908CE-1CBB-4E69-8DAB-9E245E88B706}" type="slidenum">
              <a:rPr b="0" lang="el-GR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 type="dt" idx="2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6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ftr" idx="24"/>
          </p:nvPr>
        </p:nvSpPr>
        <p:spPr>
          <a:xfrm>
            <a:off x="3123720" y="6356520"/>
            <a:ext cx="289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Foo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sldNum" idx="2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00787-E792-4E60-BBAB-56B95E89B055}" type="slidenum">
              <a:rPr b="0" lang="el-GR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dt" idx="2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69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69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69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69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69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69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69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69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69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69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69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69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69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13 - Ορθογώνιο"/>
          <p:cNvSpPr/>
          <p:nvPr/>
        </p:nvSpPr>
        <p:spPr>
          <a:xfrm>
            <a:off x="900000" y="2997360"/>
            <a:ext cx="727092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2060"/>
                </a:solidFill>
                <a:latin typeface="Calibri"/>
              </a:rPr>
              <a:t>Δια-ιδρυματικό – Διατμηματικό Πρόγραμμα Μεταπτυχιακών Σπουδώ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14 - Ορθογώνιο"/>
          <p:cNvSpPr/>
          <p:nvPr/>
        </p:nvSpPr>
        <p:spPr>
          <a:xfrm>
            <a:off x="357120" y="4437000"/>
            <a:ext cx="8286840" cy="149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4040"/>
                <a:tab algn="l" pos="3618000"/>
                <a:tab algn="l" pos="4343400"/>
                <a:tab algn="l" pos="50673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Arial"/>
              </a:rPr>
              <a:t>Εξειδίκευση στις Τ.Π.Ε. και Ειδική Αγωγή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4040"/>
                <a:tab algn="l" pos="3618000"/>
                <a:tab algn="l" pos="4343400"/>
                <a:tab algn="l" pos="50673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Arial"/>
              </a:rPr>
              <a:t>Ψυχοπαιδαγωγική της Ένταξη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4040"/>
                <a:tab algn="l" pos="3618000"/>
                <a:tab algn="l" pos="4343400"/>
                <a:tab algn="l" pos="50673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15 - Ορθογώνιο"/>
          <p:cNvSpPr/>
          <p:nvPr/>
        </p:nvSpPr>
        <p:spPr>
          <a:xfrm>
            <a:off x="826920" y="5805360"/>
            <a:ext cx="7344000" cy="6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99"/>
                </a:solidFill>
                <a:latin typeface="Arial"/>
              </a:rPr>
              <a:t>ΕΙΣΗΓΗΤΗΣ: Γούπος Θεόδωρος,  δρ. Παιδαγωγικών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3" name="Picture 9" descr=""/>
          <p:cNvPicPr/>
          <p:nvPr/>
        </p:nvPicPr>
        <p:blipFill>
          <a:blip r:embed="rId1"/>
          <a:stretch/>
        </p:blipFill>
        <p:spPr>
          <a:xfrm>
            <a:off x="0" y="1268280"/>
            <a:ext cx="9144000" cy="1366920"/>
          </a:xfrm>
          <a:prstGeom prst="rect">
            <a:avLst/>
          </a:prstGeom>
          <a:ln w="0">
            <a:noFill/>
          </a:ln>
        </p:spPr>
      </p:pic>
      <p:pic>
        <p:nvPicPr>
          <p:cNvPr id="1064" name="Picture 10" descr=""/>
          <p:cNvPicPr/>
          <p:nvPr/>
        </p:nvPicPr>
        <p:blipFill>
          <a:blip r:embed="rId2"/>
          <a:stretch/>
        </p:blipFill>
        <p:spPr>
          <a:xfrm>
            <a:off x="179280" y="0"/>
            <a:ext cx="1009800" cy="118908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11" descr=""/>
          <p:cNvPicPr/>
          <p:nvPr/>
        </p:nvPicPr>
        <p:blipFill>
          <a:blip r:embed="rId3"/>
          <a:stretch/>
        </p:blipFill>
        <p:spPr>
          <a:xfrm>
            <a:off x="1116000" y="189000"/>
            <a:ext cx="3571920" cy="942840"/>
          </a:xfrm>
          <a:prstGeom prst="rect">
            <a:avLst/>
          </a:prstGeom>
          <a:ln w="0">
            <a:noFill/>
          </a:ln>
        </p:spPr>
      </p:pic>
      <p:pic>
        <p:nvPicPr>
          <p:cNvPr id="1066" name="12 - Εικόνα" descr=""/>
          <p:cNvPicPr/>
          <p:nvPr/>
        </p:nvPicPr>
        <p:blipFill>
          <a:blip r:embed="rId4"/>
          <a:stretch/>
        </p:blipFill>
        <p:spPr>
          <a:xfrm>
            <a:off x="5003640" y="0"/>
            <a:ext cx="1119240" cy="1219320"/>
          </a:xfrm>
          <a:prstGeom prst="rect">
            <a:avLst/>
          </a:prstGeom>
          <a:ln w="0">
            <a:noFill/>
          </a:ln>
        </p:spPr>
      </p:pic>
      <p:pic>
        <p:nvPicPr>
          <p:cNvPr id="1067" name="Picture 13" descr=""/>
          <p:cNvPicPr/>
          <p:nvPr/>
        </p:nvPicPr>
        <p:blipFill>
          <a:blip r:embed="rId5"/>
          <a:stretch/>
        </p:blipFill>
        <p:spPr>
          <a:xfrm>
            <a:off x="6156360" y="115920"/>
            <a:ext cx="2867040" cy="100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178920" y="772920"/>
            <a:ext cx="849636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Calibri"/>
              </a:rPr>
              <a:t>Οι Wang, Haertel &amp; Walberg (1993)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Calibri"/>
              </a:rPr>
              <a:t>παρουσίασαν τη σπουδαιότητα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Calibri"/>
              </a:rPr>
              <a:t>του Classroom Management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Calibri"/>
              </a:rPr>
              <a:t> μέσα από μία περιεκτική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Calibri"/>
              </a:rPr>
              <a:t> βιβλιογραφική ανασκόπηση.</a:t>
            </a:r>
            <a:br>
              <a:rPr sz="2800"/>
            </a:b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Calibri"/>
              </a:rPr>
              <a:t>Προέκυψε, λοιπόν,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Calibri"/>
              </a:rPr>
              <a:t>ένας κατάλογος με 228 παράγοντες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Calibri"/>
              </a:rPr>
              <a:t> που επηρεάζουν την επίδοση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Calibri"/>
              </a:rPr>
              <a:t>των μαθητών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9" name="Ομάδα 1"/>
          <p:cNvGrpSpPr/>
          <p:nvPr/>
        </p:nvGrpSpPr>
        <p:grpSpPr>
          <a:xfrm>
            <a:off x="0" y="115920"/>
            <a:ext cx="9144000" cy="6551640"/>
            <a:chOff x="0" y="115920"/>
            <a:chExt cx="9144000" cy="6551640"/>
          </a:xfrm>
        </p:grpSpPr>
        <p:grpSp>
          <p:nvGrpSpPr>
            <p:cNvPr id="1150" name="Ομάδα 1"/>
            <p:cNvGrpSpPr/>
            <p:nvPr/>
          </p:nvGrpSpPr>
          <p:grpSpPr>
            <a:xfrm>
              <a:off x="0" y="115920"/>
              <a:ext cx="9144000" cy="6551640"/>
              <a:chOff x="0" y="115920"/>
              <a:chExt cx="9144000" cy="6551640"/>
            </a:xfrm>
          </p:grpSpPr>
          <p:sp>
            <p:nvSpPr>
              <p:cNvPr id="1151" name="Line 4"/>
              <p:cNvSpPr/>
              <p:nvPr/>
            </p:nvSpPr>
            <p:spPr>
              <a:xfrm>
                <a:off x="179280" y="115920"/>
                <a:ext cx="8714520" cy="180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2" name="Rectangle 5"/>
              <p:cNvSpPr/>
              <p:nvPr/>
            </p:nvSpPr>
            <p:spPr>
              <a:xfrm>
                <a:off x="1692360" y="187560"/>
                <a:ext cx="6767640" cy="64764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3" name="Rectangle 3"/>
              <p:cNvSpPr/>
              <p:nvPr/>
            </p:nvSpPr>
            <p:spPr>
              <a:xfrm>
                <a:off x="0" y="5949000"/>
                <a:ext cx="9144000" cy="71856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tabLst>
                    <a:tab algn="l" pos="0"/>
                    <a:tab algn="l" pos="723960"/>
                    <a:tab algn="l" pos="1447920"/>
                    <a:tab algn="l" pos="2171880"/>
                    <a:tab algn="l" pos="2894040"/>
                    <a:tab algn="l" pos="3618000"/>
                    <a:tab algn="l" pos="4343400"/>
                    <a:tab algn="l" pos="5067360"/>
                    <a:tab algn="l" pos="5791320"/>
                    <a:tab algn="l" pos="6515280"/>
                    <a:tab algn="l" pos="7237440"/>
                    <a:tab algn="l" pos="796140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tabLst>
                    <a:tab algn="l" pos="0"/>
                    <a:tab algn="l" pos="723960"/>
                    <a:tab algn="l" pos="1447920"/>
                    <a:tab algn="l" pos="2171880"/>
                    <a:tab algn="l" pos="2894040"/>
                    <a:tab algn="l" pos="3618000"/>
                    <a:tab algn="l" pos="4343400"/>
                    <a:tab algn="l" pos="5067360"/>
                    <a:tab algn="l" pos="5791320"/>
                    <a:tab algn="l" pos="6515280"/>
                    <a:tab algn="l" pos="7237440"/>
                    <a:tab algn="l" pos="796140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4040"/>
                    <a:tab algn="l" pos="3618000"/>
                    <a:tab algn="l" pos="4343400"/>
                    <a:tab algn="l" pos="5067360"/>
                    <a:tab algn="l" pos="5791320"/>
                    <a:tab algn="l" pos="6515280"/>
                    <a:tab algn="l" pos="7237440"/>
                    <a:tab algn="l" pos="796140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4040"/>
                    <a:tab algn="l" pos="3618000"/>
                    <a:tab algn="l" pos="4343400"/>
                    <a:tab algn="l" pos="5067360"/>
                    <a:tab algn="l" pos="5791320"/>
                    <a:tab algn="l" pos="6515280"/>
                    <a:tab algn="l" pos="7237440"/>
                    <a:tab algn="l" pos="796140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tabLst>
                    <a:tab algn="l" pos="0"/>
                    <a:tab algn="l" pos="723960"/>
                    <a:tab algn="l" pos="1447920"/>
                    <a:tab algn="l" pos="2171880"/>
                    <a:tab algn="l" pos="2894040"/>
                    <a:tab algn="l" pos="3618000"/>
                    <a:tab algn="l" pos="4343400"/>
                    <a:tab algn="l" pos="5067360"/>
                    <a:tab algn="l" pos="5791320"/>
                    <a:tab algn="l" pos="6515280"/>
                    <a:tab algn="l" pos="7237440"/>
                    <a:tab algn="l" pos="796140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4040"/>
                    <a:tab algn="l" pos="3618000"/>
                    <a:tab algn="l" pos="4343400"/>
                    <a:tab algn="l" pos="5067360"/>
                    <a:tab algn="l" pos="5791320"/>
                    <a:tab algn="l" pos="6515280"/>
                    <a:tab algn="l" pos="7237440"/>
                    <a:tab algn="l" pos="796140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54" name="Line 3"/>
            <p:cNvSpPr/>
            <p:nvPr/>
          </p:nvSpPr>
          <p:spPr>
            <a:xfrm>
              <a:off x="179280" y="115920"/>
              <a:ext cx="1440" cy="13687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5" name="Rectangle 1"/>
          <p:cNvSpPr/>
          <p:nvPr/>
        </p:nvSpPr>
        <p:spPr>
          <a:xfrm>
            <a:off x="1042920" y="1989000"/>
            <a:ext cx="7845480" cy="41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6" name="9 - Εικόνα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  <p:pic>
        <p:nvPicPr>
          <p:cNvPr id="1157" name="Picture 1" descr=""/>
          <p:cNvPicPr/>
          <p:nvPr/>
        </p:nvPicPr>
        <p:blipFill>
          <a:blip r:embed="rId4"/>
          <a:stretch/>
        </p:blipFill>
        <p:spPr>
          <a:xfrm>
            <a:off x="5580000" y="981000"/>
            <a:ext cx="3564000" cy="489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8" name="Ομάδα 1"/>
          <p:cNvGrpSpPr/>
          <p:nvPr/>
        </p:nvGrpSpPr>
        <p:grpSpPr>
          <a:xfrm>
            <a:off x="0" y="115920"/>
            <a:ext cx="9144000" cy="6551640"/>
            <a:chOff x="0" y="115920"/>
            <a:chExt cx="9144000" cy="6551640"/>
          </a:xfrm>
        </p:grpSpPr>
        <p:grpSp>
          <p:nvGrpSpPr>
            <p:cNvPr id="1159" name="Ομάδα 1"/>
            <p:cNvGrpSpPr/>
            <p:nvPr/>
          </p:nvGrpSpPr>
          <p:grpSpPr>
            <a:xfrm>
              <a:off x="0" y="115920"/>
              <a:ext cx="9144000" cy="6551640"/>
              <a:chOff x="0" y="115920"/>
              <a:chExt cx="9144000" cy="6551640"/>
            </a:xfrm>
          </p:grpSpPr>
          <p:sp>
            <p:nvSpPr>
              <p:cNvPr id="1160" name="Line 4"/>
              <p:cNvSpPr/>
              <p:nvPr/>
            </p:nvSpPr>
            <p:spPr>
              <a:xfrm>
                <a:off x="179280" y="115920"/>
                <a:ext cx="8714520" cy="180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1" name="Rectangle 5"/>
              <p:cNvSpPr/>
              <p:nvPr/>
            </p:nvSpPr>
            <p:spPr>
              <a:xfrm>
                <a:off x="1692360" y="187560"/>
                <a:ext cx="6767640" cy="64764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2" name="Rectangle 3"/>
              <p:cNvSpPr/>
              <p:nvPr/>
            </p:nvSpPr>
            <p:spPr>
              <a:xfrm>
                <a:off x="0" y="5949000"/>
                <a:ext cx="9144000" cy="71856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tabLst>
                    <a:tab algn="l" pos="0"/>
                    <a:tab algn="l" pos="723960"/>
                    <a:tab algn="l" pos="1447920"/>
                    <a:tab algn="l" pos="2171880"/>
                    <a:tab algn="l" pos="2894040"/>
                    <a:tab algn="l" pos="3618000"/>
                    <a:tab algn="l" pos="4343400"/>
                    <a:tab algn="l" pos="5067360"/>
                    <a:tab algn="l" pos="5791320"/>
                    <a:tab algn="l" pos="6515280"/>
                    <a:tab algn="l" pos="7237440"/>
                    <a:tab algn="l" pos="796140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tabLst>
                    <a:tab algn="l" pos="0"/>
                    <a:tab algn="l" pos="723960"/>
                    <a:tab algn="l" pos="1447920"/>
                    <a:tab algn="l" pos="2171880"/>
                    <a:tab algn="l" pos="2894040"/>
                    <a:tab algn="l" pos="3618000"/>
                    <a:tab algn="l" pos="4343400"/>
                    <a:tab algn="l" pos="5067360"/>
                    <a:tab algn="l" pos="5791320"/>
                    <a:tab algn="l" pos="6515280"/>
                    <a:tab algn="l" pos="7237440"/>
                    <a:tab algn="l" pos="796140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4040"/>
                    <a:tab algn="l" pos="3618000"/>
                    <a:tab algn="l" pos="4343400"/>
                    <a:tab algn="l" pos="5067360"/>
                    <a:tab algn="l" pos="5791320"/>
                    <a:tab algn="l" pos="6515280"/>
                    <a:tab algn="l" pos="7237440"/>
                    <a:tab algn="l" pos="796140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4040"/>
                    <a:tab algn="l" pos="3618000"/>
                    <a:tab algn="l" pos="4343400"/>
                    <a:tab algn="l" pos="5067360"/>
                    <a:tab algn="l" pos="5791320"/>
                    <a:tab algn="l" pos="6515280"/>
                    <a:tab algn="l" pos="7237440"/>
                    <a:tab algn="l" pos="796140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tabLst>
                    <a:tab algn="l" pos="0"/>
                    <a:tab algn="l" pos="723960"/>
                    <a:tab algn="l" pos="1447920"/>
                    <a:tab algn="l" pos="2171880"/>
                    <a:tab algn="l" pos="2894040"/>
                    <a:tab algn="l" pos="3618000"/>
                    <a:tab algn="l" pos="4343400"/>
                    <a:tab algn="l" pos="5067360"/>
                    <a:tab algn="l" pos="5791320"/>
                    <a:tab algn="l" pos="6515280"/>
                    <a:tab algn="l" pos="7237440"/>
                    <a:tab algn="l" pos="796140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4040"/>
                    <a:tab algn="l" pos="3618000"/>
                    <a:tab algn="l" pos="4343400"/>
                    <a:tab algn="l" pos="5067360"/>
                    <a:tab algn="l" pos="5791320"/>
                    <a:tab algn="l" pos="6515280"/>
                    <a:tab algn="l" pos="7237440"/>
                    <a:tab algn="l" pos="796140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63" name="Line 3"/>
            <p:cNvSpPr/>
            <p:nvPr/>
          </p:nvSpPr>
          <p:spPr>
            <a:xfrm>
              <a:off x="179280" y="115920"/>
              <a:ext cx="1440" cy="13687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4" name="Rectangle 1"/>
          <p:cNvSpPr/>
          <p:nvPr/>
        </p:nvSpPr>
        <p:spPr>
          <a:xfrm>
            <a:off x="1042920" y="1989000"/>
            <a:ext cx="7845480" cy="41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5" name="9 - Εικόνα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  <p:sp>
        <p:nvSpPr>
          <p:cNvPr id="1166" name="Ορθογώνιο 1"/>
          <p:cNvSpPr/>
          <p:nvPr/>
        </p:nvSpPr>
        <p:spPr>
          <a:xfrm>
            <a:off x="33480" y="2271600"/>
            <a:ext cx="9142200" cy="35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Calibri"/>
              </a:rPr>
              <a:t>Έπειτα από 134 μετα-αναλύσει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Calibri"/>
              </a:rPr>
              <a:t>κατέληξαν στο συμπέρασμα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Calibri"/>
              </a:rPr>
              <a:t>πως η παράμετρος της οργάνωσης και διοίκηση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Calibri"/>
              </a:rPr>
              <a:t>είχε τη μεγαλύτερη επίδραση στην επίδοση των μαθητών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Calibri"/>
              </a:rPr>
              <a:t>Συνεπώς, αποτελεί την απαραίτητη προϋπόθεση για τη δημιουργία ενός παραγωγικού εκπαιδευτικού περιβάλλοντο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7" name="Picture 2" descr=""/>
          <p:cNvPicPr/>
          <p:nvPr/>
        </p:nvPicPr>
        <p:blipFill>
          <a:blip r:embed="rId4"/>
          <a:stretch/>
        </p:blipFill>
        <p:spPr>
          <a:xfrm>
            <a:off x="4983120" y="1052640"/>
            <a:ext cx="3927600" cy="2589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0" y="187200"/>
            <a:ext cx="9323280" cy="45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Calibri"/>
              </a:rPr>
              <a:t>Παράλληλα και συνδυαστικά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Calibri"/>
              </a:rPr>
              <a:t>το παιδαγωγικό κλίμα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Calibri"/>
              </a:rPr>
              <a:t>που διαμορφώνεται και επικρατεί στην σχολική τάξη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Calibri"/>
              </a:rPr>
              <a:t>επηρεάζει σε μεγάλο βαθμό την ψυχική διάθεση,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Calibri"/>
              </a:rPr>
              <a:t> την συμπεριφορά και των ενθουσιασμό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Calibri"/>
              </a:rPr>
              <a:t>τόσο των εκπαιδευτικών όσο και των μαθητών για την αποτελεσματικότερη εκτέλεση της εργασίας τους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9" name="Ομάδα 1"/>
          <p:cNvGrpSpPr/>
          <p:nvPr/>
        </p:nvGrpSpPr>
        <p:grpSpPr>
          <a:xfrm>
            <a:off x="0" y="115920"/>
            <a:ext cx="9144000" cy="6551640"/>
            <a:chOff x="0" y="115920"/>
            <a:chExt cx="9144000" cy="6551640"/>
          </a:xfrm>
        </p:grpSpPr>
        <p:grpSp>
          <p:nvGrpSpPr>
            <p:cNvPr id="1170" name="Ομάδα 1"/>
            <p:cNvGrpSpPr/>
            <p:nvPr/>
          </p:nvGrpSpPr>
          <p:grpSpPr>
            <a:xfrm>
              <a:off x="0" y="115920"/>
              <a:ext cx="9144000" cy="6551640"/>
              <a:chOff x="0" y="115920"/>
              <a:chExt cx="9144000" cy="6551640"/>
            </a:xfrm>
          </p:grpSpPr>
          <p:sp>
            <p:nvSpPr>
              <p:cNvPr id="1171" name="Line 4"/>
              <p:cNvSpPr/>
              <p:nvPr/>
            </p:nvSpPr>
            <p:spPr>
              <a:xfrm>
                <a:off x="179280" y="115920"/>
                <a:ext cx="8714520" cy="180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2" name="Rectangle 5"/>
              <p:cNvSpPr/>
              <p:nvPr/>
            </p:nvSpPr>
            <p:spPr>
              <a:xfrm>
                <a:off x="1692360" y="187560"/>
                <a:ext cx="6767640" cy="64764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3" name="Rectangle 3"/>
              <p:cNvSpPr/>
              <p:nvPr/>
            </p:nvSpPr>
            <p:spPr>
              <a:xfrm>
                <a:off x="0" y="5949000"/>
                <a:ext cx="9144000" cy="71856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tabLst>
                    <a:tab algn="l" pos="0"/>
                    <a:tab algn="l" pos="723960"/>
                    <a:tab algn="l" pos="1447920"/>
                    <a:tab algn="l" pos="2171880"/>
                    <a:tab algn="l" pos="2894040"/>
                    <a:tab algn="l" pos="3618000"/>
                    <a:tab algn="l" pos="4343400"/>
                    <a:tab algn="l" pos="5067360"/>
                    <a:tab algn="l" pos="5791320"/>
                    <a:tab algn="l" pos="6515280"/>
                    <a:tab algn="l" pos="7237440"/>
                    <a:tab algn="l" pos="796140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tabLst>
                    <a:tab algn="l" pos="0"/>
                    <a:tab algn="l" pos="723960"/>
                    <a:tab algn="l" pos="1447920"/>
                    <a:tab algn="l" pos="2171880"/>
                    <a:tab algn="l" pos="2894040"/>
                    <a:tab algn="l" pos="3618000"/>
                    <a:tab algn="l" pos="4343400"/>
                    <a:tab algn="l" pos="5067360"/>
                    <a:tab algn="l" pos="5791320"/>
                    <a:tab algn="l" pos="6515280"/>
                    <a:tab algn="l" pos="7237440"/>
                    <a:tab algn="l" pos="796140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4040"/>
                    <a:tab algn="l" pos="3618000"/>
                    <a:tab algn="l" pos="4343400"/>
                    <a:tab algn="l" pos="5067360"/>
                    <a:tab algn="l" pos="5791320"/>
                    <a:tab algn="l" pos="6515280"/>
                    <a:tab algn="l" pos="7237440"/>
                    <a:tab algn="l" pos="796140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4040"/>
                    <a:tab algn="l" pos="3618000"/>
                    <a:tab algn="l" pos="4343400"/>
                    <a:tab algn="l" pos="5067360"/>
                    <a:tab algn="l" pos="5791320"/>
                    <a:tab algn="l" pos="6515280"/>
                    <a:tab algn="l" pos="7237440"/>
                    <a:tab algn="l" pos="796140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tabLst>
                    <a:tab algn="l" pos="0"/>
                    <a:tab algn="l" pos="723960"/>
                    <a:tab algn="l" pos="1447920"/>
                    <a:tab algn="l" pos="2171880"/>
                    <a:tab algn="l" pos="2894040"/>
                    <a:tab algn="l" pos="3618000"/>
                    <a:tab algn="l" pos="4343400"/>
                    <a:tab algn="l" pos="5067360"/>
                    <a:tab algn="l" pos="5791320"/>
                    <a:tab algn="l" pos="6515280"/>
                    <a:tab algn="l" pos="7237440"/>
                    <a:tab algn="l" pos="796140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4040"/>
                    <a:tab algn="l" pos="3618000"/>
                    <a:tab algn="l" pos="4343400"/>
                    <a:tab algn="l" pos="5067360"/>
                    <a:tab algn="l" pos="5791320"/>
                    <a:tab algn="l" pos="6515280"/>
                    <a:tab algn="l" pos="7237440"/>
                    <a:tab algn="l" pos="796140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74" name="Line 3"/>
            <p:cNvSpPr/>
            <p:nvPr/>
          </p:nvSpPr>
          <p:spPr>
            <a:xfrm>
              <a:off x="179280" y="115920"/>
              <a:ext cx="1440" cy="13687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5" name="Rectangle 1"/>
          <p:cNvSpPr/>
          <p:nvPr/>
        </p:nvSpPr>
        <p:spPr>
          <a:xfrm>
            <a:off x="1042920" y="1989000"/>
            <a:ext cx="7845480" cy="41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6" name="9 - Εικόνα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  <p:pic>
        <p:nvPicPr>
          <p:cNvPr id="1177" name="Picture 1" descr=""/>
          <p:cNvPicPr/>
          <p:nvPr/>
        </p:nvPicPr>
        <p:blipFill>
          <a:blip r:embed="rId4"/>
          <a:stretch/>
        </p:blipFill>
        <p:spPr>
          <a:xfrm>
            <a:off x="3095640" y="3786120"/>
            <a:ext cx="3738600" cy="216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34560" y="641520"/>
            <a:ext cx="9109080" cy="54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l-GR" sz="2400" spc="-1" strike="noStrike">
                <a:solidFill>
                  <a:srgbClr val="000000"/>
                </a:solidFill>
                <a:latin typeface="Calibri"/>
              </a:rPr>
              <a:t>Επισημαίνεται πως  η οργάνωση και η διεύθυνση της σχολικής αίθουσας είναι μια</a:t>
            </a:r>
            <a:br>
              <a:rPr sz="2400"/>
            </a:br>
            <a:r>
              <a:rPr b="0" lang="el-GR" sz="2400" spc="-1" strike="noStrike">
                <a:solidFill>
                  <a:srgbClr val="000000"/>
                </a:solidFill>
                <a:latin typeface="Calibri"/>
              </a:rPr>
              <a:t>συνεχής εξελισσόμενη διαδικασία. 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lang="el-GR" sz="2400" spc="-1" strike="noStrike">
                <a:solidFill>
                  <a:srgbClr val="000000"/>
                </a:solidFill>
                <a:latin typeface="Calibri"/>
              </a:rPr>
              <a:t>Λίγοι εκπαιδευτικοί φτάνουν στην τελειότητα</a:t>
            </a:r>
            <a:br>
              <a:rPr sz="2400"/>
            </a:br>
            <a:r>
              <a:rPr b="0" lang="el-GR" sz="2400" spc="-1" strike="noStrike">
                <a:solidFill>
                  <a:srgbClr val="000000"/>
                </a:solidFill>
                <a:latin typeface="Calibri"/>
              </a:rPr>
              <a:t>κατά τη διάρκεια της καριέρας τους, </a:t>
            </a:r>
            <a:br>
              <a:rPr sz="2400"/>
            </a:br>
            <a:r>
              <a:rPr b="0" lang="el-GR" sz="2400" spc="-1" strike="noStrike">
                <a:solidFill>
                  <a:srgbClr val="000000"/>
                </a:solidFill>
                <a:latin typeface="Calibri"/>
              </a:rPr>
              <a:t>αν και αποτελεί θεμέλιο μια επιτυχημένης</a:t>
            </a:r>
            <a:br>
              <a:rPr sz="2400"/>
            </a:br>
            <a:r>
              <a:rPr b="0" lang="el-GR" sz="2400" spc="-1" strike="noStrike">
                <a:solidFill>
                  <a:srgbClr val="000000"/>
                </a:solidFill>
                <a:latin typeface="Calibri"/>
              </a:rPr>
              <a:t>καριέρας στον εκπαιδευτικό χώρο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9" name="Ομάδα 1"/>
          <p:cNvGrpSpPr/>
          <p:nvPr/>
        </p:nvGrpSpPr>
        <p:grpSpPr>
          <a:xfrm>
            <a:off x="0" y="115920"/>
            <a:ext cx="9144000" cy="6551640"/>
            <a:chOff x="0" y="115920"/>
            <a:chExt cx="9144000" cy="6551640"/>
          </a:xfrm>
        </p:grpSpPr>
        <p:grpSp>
          <p:nvGrpSpPr>
            <p:cNvPr id="1180" name="Ομάδα 1"/>
            <p:cNvGrpSpPr/>
            <p:nvPr/>
          </p:nvGrpSpPr>
          <p:grpSpPr>
            <a:xfrm>
              <a:off x="0" y="115920"/>
              <a:ext cx="9144000" cy="6551640"/>
              <a:chOff x="0" y="115920"/>
              <a:chExt cx="9144000" cy="6551640"/>
            </a:xfrm>
          </p:grpSpPr>
          <p:sp>
            <p:nvSpPr>
              <p:cNvPr id="1181" name="Line 4"/>
              <p:cNvSpPr/>
              <p:nvPr/>
            </p:nvSpPr>
            <p:spPr>
              <a:xfrm>
                <a:off x="179280" y="115920"/>
                <a:ext cx="8714520" cy="180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2" name="Rectangle 5"/>
              <p:cNvSpPr/>
              <p:nvPr/>
            </p:nvSpPr>
            <p:spPr>
              <a:xfrm>
                <a:off x="1692360" y="187560"/>
                <a:ext cx="6767640" cy="64764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3" name="Rectangle 3"/>
              <p:cNvSpPr/>
              <p:nvPr/>
            </p:nvSpPr>
            <p:spPr>
              <a:xfrm>
                <a:off x="0" y="5949000"/>
                <a:ext cx="9144000" cy="71856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tabLst>
                    <a:tab algn="l" pos="0"/>
                    <a:tab algn="l" pos="723960"/>
                    <a:tab algn="l" pos="1447920"/>
                    <a:tab algn="l" pos="2171880"/>
                    <a:tab algn="l" pos="2894040"/>
                    <a:tab algn="l" pos="3618000"/>
                    <a:tab algn="l" pos="4343400"/>
                    <a:tab algn="l" pos="5067360"/>
                    <a:tab algn="l" pos="5791320"/>
                    <a:tab algn="l" pos="6515280"/>
                    <a:tab algn="l" pos="7237440"/>
                    <a:tab algn="l" pos="796140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tabLst>
                    <a:tab algn="l" pos="0"/>
                    <a:tab algn="l" pos="723960"/>
                    <a:tab algn="l" pos="1447920"/>
                    <a:tab algn="l" pos="2171880"/>
                    <a:tab algn="l" pos="2894040"/>
                    <a:tab algn="l" pos="3618000"/>
                    <a:tab algn="l" pos="4343400"/>
                    <a:tab algn="l" pos="5067360"/>
                    <a:tab algn="l" pos="5791320"/>
                    <a:tab algn="l" pos="6515280"/>
                    <a:tab algn="l" pos="7237440"/>
                    <a:tab algn="l" pos="796140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4040"/>
                    <a:tab algn="l" pos="3618000"/>
                    <a:tab algn="l" pos="4343400"/>
                    <a:tab algn="l" pos="5067360"/>
                    <a:tab algn="l" pos="5791320"/>
                    <a:tab algn="l" pos="6515280"/>
                    <a:tab algn="l" pos="7237440"/>
                    <a:tab algn="l" pos="796140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4040"/>
                    <a:tab algn="l" pos="3618000"/>
                    <a:tab algn="l" pos="4343400"/>
                    <a:tab algn="l" pos="5067360"/>
                    <a:tab algn="l" pos="5791320"/>
                    <a:tab algn="l" pos="6515280"/>
                    <a:tab algn="l" pos="7237440"/>
                    <a:tab algn="l" pos="796140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tabLst>
                    <a:tab algn="l" pos="0"/>
                    <a:tab algn="l" pos="723960"/>
                    <a:tab algn="l" pos="1447920"/>
                    <a:tab algn="l" pos="2171880"/>
                    <a:tab algn="l" pos="2894040"/>
                    <a:tab algn="l" pos="3618000"/>
                    <a:tab algn="l" pos="4343400"/>
                    <a:tab algn="l" pos="5067360"/>
                    <a:tab algn="l" pos="5791320"/>
                    <a:tab algn="l" pos="6515280"/>
                    <a:tab algn="l" pos="7237440"/>
                    <a:tab algn="l" pos="796140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4040"/>
                    <a:tab algn="l" pos="3618000"/>
                    <a:tab algn="l" pos="4343400"/>
                    <a:tab algn="l" pos="5067360"/>
                    <a:tab algn="l" pos="5791320"/>
                    <a:tab algn="l" pos="6515280"/>
                    <a:tab algn="l" pos="7237440"/>
                    <a:tab algn="l" pos="796140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84" name="Line 3"/>
            <p:cNvSpPr/>
            <p:nvPr/>
          </p:nvSpPr>
          <p:spPr>
            <a:xfrm>
              <a:off x="179280" y="115920"/>
              <a:ext cx="1440" cy="13687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5" name="Rectangle 1"/>
          <p:cNvSpPr/>
          <p:nvPr/>
        </p:nvSpPr>
        <p:spPr>
          <a:xfrm>
            <a:off x="1042920" y="1989000"/>
            <a:ext cx="7845480" cy="41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6" name="9 - Εικόνα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  <p:pic>
        <p:nvPicPr>
          <p:cNvPr id="1187" name="Picture 3" descr=""/>
          <p:cNvPicPr/>
          <p:nvPr/>
        </p:nvPicPr>
        <p:blipFill>
          <a:blip r:embed="rId4"/>
          <a:stretch/>
        </p:blipFill>
        <p:spPr>
          <a:xfrm>
            <a:off x="3110040" y="2421000"/>
            <a:ext cx="2923920" cy="2062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428760" y="1392120"/>
            <a:ext cx="803088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Calibri"/>
              </a:rPr>
              <a:t>Η Σχολική Τάξη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el-GR" sz="2800" spc="-1" strike="noStrike">
                <a:solidFill>
                  <a:srgbClr val="000099"/>
                </a:solidFill>
                <a:latin typeface="Calibri"/>
              </a:rPr>
              <a:t>ΕΙΣΗΓΗΤΗΣ: Γούπος Θεόδωρος,  δρ. Παιδαγωγικών,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9" name="Ομάδα 1"/>
          <p:cNvGrpSpPr/>
          <p:nvPr/>
        </p:nvGrpSpPr>
        <p:grpSpPr>
          <a:xfrm>
            <a:off x="0" y="115920"/>
            <a:ext cx="9144000" cy="6551640"/>
            <a:chOff x="0" y="115920"/>
            <a:chExt cx="9144000" cy="6551640"/>
          </a:xfrm>
        </p:grpSpPr>
        <p:grpSp>
          <p:nvGrpSpPr>
            <p:cNvPr id="1190" name="Ομάδα 1"/>
            <p:cNvGrpSpPr/>
            <p:nvPr/>
          </p:nvGrpSpPr>
          <p:grpSpPr>
            <a:xfrm>
              <a:off x="0" y="115920"/>
              <a:ext cx="9144000" cy="6551640"/>
              <a:chOff x="0" y="115920"/>
              <a:chExt cx="9144000" cy="6551640"/>
            </a:xfrm>
          </p:grpSpPr>
          <p:sp>
            <p:nvSpPr>
              <p:cNvPr id="1191" name="Line 4"/>
              <p:cNvSpPr/>
              <p:nvPr/>
            </p:nvSpPr>
            <p:spPr>
              <a:xfrm>
                <a:off x="179280" y="115920"/>
                <a:ext cx="8714520" cy="180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2" name="Rectangle 5"/>
              <p:cNvSpPr/>
              <p:nvPr/>
            </p:nvSpPr>
            <p:spPr>
              <a:xfrm>
                <a:off x="1692360" y="187560"/>
                <a:ext cx="6767640" cy="64764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3" name="Rectangle 3"/>
              <p:cNvSpPr/>
              <p:nvPr/>
            </p:nvSpPr>
            <p:spPr>
              <a:xfrm>
                <a:off x="0" y="5949000"/>
                <a:ext cx="9144000" cy="71856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tabLst>
                    <a:tab algn="l" pos="0"/>
                    <a:tab algn="l" pos="723960"/>
                    <a:tab algn="l" pos="1447920"/>
                    <a:tab algn="l" pos="2171880"/>
                    <a:tab algn="l" pos="2894040"/>
                    <a:tab algn="l" pos="3618000"/>
                    <a:tab algn="l" pos="4343400"/>
                    <a:tab algn="l" pos="5067360"/>
                    <a:tab algn="l" pos="5791320"/>
                    <a:tab algn="l" pos="6515280"/>
                    <a:tab algn="l" pos="7237440"/>
                    <a:tab algn="l" pos="796140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tabLst>
                    <a:tab algn="l" pos="0"/>
                    <a:tab algn="l" pos="723960"/>
                    <a:tab algn="l" pos="1447920"/>
                    <a:tab algn="l" pos="2171880"/>
                    <a:tab algn="l" pos="2894040"/>
                    <a:tab algn="l" pos="3618000"/>
                    <a:tab algn="l" pos="4343400"/>
                    <a:tab algn="l" pos="5067360"/>
                    <a:tab algn="l" pos="5791320"/>
                    <a:tab algn="l" pos="6515280"/>
                    <a:tab algn="l" pos="7237440"/>
                    <a:tab algn="l" pos="796140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4040"/>
                    <a:tab algn="l" pos="3618000"/>
                    <a:tab algn="l" pos="4343400"/>
                    <a:tab algn="l" pos="5067360"/>
                    <a:tab algn="l" pos="5791320"/>
                    <a:tab algn="l" pos="6515280"/>
                    <a:tab algn="l" pos="7237440"/>
                    <a:tab algn="l" pos="796140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4040"/>
                    <a:tab algn="l" pos="3618000"/>
                    <a:tab algn="l" pos="4343400"/>
                    <a:tab algn="l" pos="5067360"/>
                    <a:tab algn="l" pos="5791320"/>
                    <a:tab algn="l" pos="6515280"/>
                    <a:tab algn="l" pos="7237440"/>
                    <a:tab algn="l" pos="796140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tabLst>
                    <a:tab algn="l" pos="0"/>
                    <a:tab algn="l" pos="723960"/>
                    <a:tab algn="l" pos="1447920"/>
                    <a:tab algn="l" pos="2171880"/>
                    <a:tab algn="l" pos="2894040"/>
                    <a:tab algn="l" pos="3618000"/>
                    <a:tab algn="l" pos="4343400"/>
                    <a:tab algn="l" pos="5067360"/>
                    <a:tab algn="l" pos="5791320"/>
                    <a:tab algn="l" pos="6515280"/>
                    <a:tab algn="l" pos="7237440"/>
                    <a:tab algn="l" pos="796140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4040"/>
                    <a:tab algn="l" pos="3618000"/>
                    <a:tab algn="l" pos="4343400"/>
                    <a:tab algn="l" pos="5067360"/>
                    <a:tab algn="l" pos="5791320"/>
                    <a:tab algn="l" pos="6515280"/>
                    <a:tab algn="l" pos="7237440"/>
                    <a:tab algn="l" pos="796140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4" name="Line 3"/>
            <p:cNvSpPr/>
            <p:nvPr/>
          </p:nvSpPr>
          <p:spPr>
            <a:xfrm>
              <a:off x="179280" y="115920"/>
              <a:ext cx="1440" cy="13687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5" name="Rectangle 1"/>
          <p:cNvSpPr/>
          <p:nvPr/>
        </p:nvSpPr>
        <p:spPr>
          <a:xfrm>
            <a:off x="1042920" y="1989000"/>
            <a:ext cx="7845480" cy="41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6" name="9 - Εικόνα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14 - Ορθογώνιο"/>
          <p:cNvSpPr/>
          <p:nvPr/>
        </p:nvSpPr>
        <p:spPr>
          <a:xfrm>
            <a:off x="395280" y="3573360"/>
            <a:ext cx="813600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4040"/>
                <a:tab algn="l" pos="3618000"/>
                <a:tab algn="l" pos="4343400"/>
                <a:tab algn="l" pos="50673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Arial"/>
              </a:rPr>
              <a:t>ΤΜΗΜΑ ΕΛΛΗΝΙΚΗΣ ΦΙΛΟΛΟΓΙΑΣ ΔΗΜΟΚΡΙΤΕΙΟΥ ΠΑΝΕΠΙΣΤΗΜΙΟΥ ΘΡΑΚΗΣ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4040"/>
                <a:tab algn="l" pos="3618000"/>
                <a:tab algn="l" pos="4343400"/>
                <a:tab algn="l" pos="50673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Arial"/>
              </a:rPr>
              <a:t>ΕΘΝΙΚΟ ΚΕΝΤΡΟ ΕΡΕΥΝΑΣ ΦΥΣΙΚΩΝ ΕΠΙΣΤΗΜΩΝ «ΔΗΜΟΚΡΙΤΟΣ»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4040"/>
                <a:tab algn="l" pos="3618000"/>
                <a:tab algn="l" pos="4343400"/>
                <a:tab algn="l" pos="50673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4040"/>
                <a:tab algn="l" pos="3618000"/>
                <a:tab algn="l" pos="4343400"/>
                <a:tab algn="l" pos="50673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8" name="Picture 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368360"/>
          </a:xfrm>
          <a:prstGeom prst="rect">
            <a:avLst/>
          </a:prstGeom>
          <a:ln w="0">
            <a:noFill/>
          </a:ln>
        </p:spPr>
      </p:pic>
      <p:pic>
        <p:nvPicPr>
          <p:cNvPr id="1199" name="Picture 10" descr=""/>
          <p:cNvPicPr/>
          <p:nvPr/>
        </p:nvPicPr>
        <p:blipFill>
          <a:blip r:embed="rId2"/>
          <a:stretch/>
        </p:blipFill>
        <p:spPr>
          <a:xfrm>
            <a:off x="1258920" y="2060640"/>
            <a:ext cx="1297080" cy="1528560"/>
          </a:xfrm>
          <a:prstGeom prst="rect">
            <a:avLst/>
          </a:prstGeom>
          <a:ln w="0">
            <a:noFill/>
          </a:ln>
        </p:spPr>
      </p:pic>
      <p:pic>
        <p:nvPicPr>
          <p:cNvPr id="1200" name="12 - Εικόνα" descr=""/>
          <p:cNvPicPr/>
          <p:nvPr/>
        </p:nvPicPr>
        <p:blipFill>
          <a:blip r:embed="rId3"/>
          <a:stretch/>
        </p:blipFill>
        <p:spPr>
          <a:xfrm>
            <a:off x="6948360" y="1989000"/>
            <a:ext cx="1444680" cy="1571760"/>
          </a:xfrm>
          <a:prstGeom prst="rect">
            <a:avLst/>
          </a:prstGeom>
          <a:ln w="0">
            <a:noFill/>
          </a:ln>
        </p:spPr>
      </p:pic>
      <p:sp>
        <p:nvSpPr>
          <p:cNvPr id="1201" name="5 - Ορθογώνιο"/>
          <p:cNvSpPr/>
          <p:nvPr/>
        </p:nvSpPr>
        <p:spPr>
          <a:xfrm>
            <a:off x="611280" y="5950080"/>
            <a:ext cx="8064360" cy="7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99"/>
                </a:solidFill>
                <a:latin typeface="Arial"/>
              </a:rPr>
              <a:t>ΕΙΣΗΓΗΤΗΣ: Γούπος Θεόδωρος,  δρ. Παιδαγωγικών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6 - Ορθογώνιο"/>
          <p:cNvSpPr/>
          <p:nvPr/>
        </p:nvSpPr>
        <p:spPr>
          <a:xfrm>
            <a:off x="179280" y="5084640"/>
            <a:ext cx="8783640" cy="7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4040"/>
                <a:tab algn="l" pos="3618000"/>
                <a:tab algn="l" pos="4343400"/>
                <a:tab algn="l" pos="50673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Arial"/>
              </a:rPr>
              <a:t>Εξειδίκευση στις Τ.Π.Ε. και Ειδική Αγωγή – Ψυχοπαιδαγωγική της Ένταξη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Calibri"/>
              </a:rPr>
              <a:t>Οργάνωση υποδομών και διαμόρφωση περιβάλλοντος εκπαίδευσης και μάθησης</a:t>
            </a:r>
            <a:br>
              <a:rPr sz="3200"/>
            </a:br>
            <a:br>
              <a:rPr sz="3200"/>
            </a:br>
            <a:r>
              <a:rPr b="1" lang="el-GR" sz="3200" spc="-1" strike="noStrike">
                <a:solidFill>
                  <a:srgbClr val="000000"/>
                </a:solidFill>
                <a:latin typeface="Calibri"/>
              </a:rPr>
              <a:t>Η Σχολική Τάξη</a:t>
            </a:r>
            <a:br>
              <a:rPr sz="2000"/>
            </a:br>
            <a:br>
              <a:rPr sz="2000"/>
            </a:br>
            <a:r>
              <a:rPr b="1" lang="el-GR" sz="2000" spc="-1" strike="noStrike">
                <a:solidFill>
                  <a:srgbClr val="000099"/>
                </a:solidFill>
                <a:latin typeface="Calibri"/>
              </a:rPr>
              <a:t>ΕΙΣΗΓΗΤΗΣ: Γούπος Θεόδωρος,  δρ. Παιδαγωγικών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9" name="Ομάδα 1"/>
          <p:cNvGrpSpPr/>
          <p:nvPr/>
        </p:nvGrpSpPr>
        <p:grpSpPr>
          <a:xfrm>
            <a:off x="0" y="115920"/>
            <a:ext cx="9144000" cy="6551640"/>
            <a:chOff x="0" y="115920"/>
            <a:chExt cx="9144000" cy="6551640"/>
          </a:xfrm>
        </p:grpSpPr>
        <p:grpSp>
          <p:nvGrpSpPr>
            <p:cNvPr id="1070" name="Ομάδα 1"/>
            <p:cNvGrpSpPr/>
            <p:nvPr/>
          </p:nvGrpSpPr>
          <p:grpSpPr>
            <a:xfrm>
              <a:off x="0" y="115920"/>
              <a:ext cx="9144000" cy="6551640"/>
              <a:chOff x="0" y="115920"/>
              <a:chExt cx="9144000" cy="6551640"/>
            </a:xfrm>
          </p:grpSpPr>
          <p:sp>
            <p:nvSpPr>
              <p:cNvPr id="1071" name="Line 4"/>
              <p:cNvSpPr/>
              <p:nvPr/>
            </p:nvSpPr>
            <p:spPr>
              <a:xfrm>
                <a:off x="179280" y="115920"/>
                <a:ext cx="8714520" cy="180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2" name="Rectangle 5"/>
              <p:cNvSpPr/>
              <p:nvPr/>
            </p:nvSpPr>
            <p:spPr>
              <a:xfrm>
                <a:off x="1692360" y="187560"/>
                <a:ext cx="6767640" cy="64764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3" name="Rectangle 3"/>
              <p:cNvSpPr/>
              <p:nvPr/>
            </p:nvSpPr>
            <p:spPr>
              <a:xfrm>
                <a:off x="0" y="5949000"/>
                <a:ext cx="9144000" cy="71856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tabLst>
                    <a:tab algn="l" pos="0"/>
                    <a:tab algn="l" pos="723960"/>
                    <a:tab algn="l" pos="1447920"/>
                    <a:tab algn="l" pos="2171880"/>
                    <a:tab algn="l" pos="2894040"/>
                    <a:tab algn="l" pos="3618000"/>
                    <a:tab algn="l" pos="4343400"/>
                    <a:tab algn="l" pos="5067360"/>
                    <a:tab algn="l" pos="5791320"/>
                    <a:tab algn="l" pos="6515280"/>
                    <a:tab algn="l" pos="7237440"/>
                    <a:tab algn="l" pos="796140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tabLst>
                    <a:tab algn="l" pos="0"/>
                    <a:tab algn="l" pos="723960"/>
                    <a:tab algn="l" pos="1447920"/>
                    <a:tab algn="l" pos="2171880"/>
                    <a:tab algn="l" pos="2894040"/>
                    <a:tab algn="l" pos="3618000"/>
                    <a:tab algn="l" pos="4343400"/>
                    <a:tab algn="l" pos="5067360"/>
                    <a:tab algn="l" pos="5791320"/>
                    <a:tab algn="l" pos="6515280"/>
                    <a:tab algn="l" pos="7237440"/>
                    <a:tab algn="l" pos="796140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4040"/>
                    <a:tab algn="l" pos="3618000"/>
                    <a:tab algn="l" pos="4343400"/>
                    <a:tab algn="l" pos="5067360"/>
                    <a:tab algn="l" pos="5791320"/>
                    <a:tab algn="l" pos="6515280"/>
                    <a:tab algn="l" pos="7237440"/>
                    <a:tab algn="l" pos="796140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4040"/>
                    <a:tab algn="l" pos="3618000"/>
                    <a:tab algn="l" pos="4343400"/>
                    <a:tab algn="l" pos="5067360"/>
                    <a:tab algn="l" pos="5791320"/>
                    <a:tab algn="l" pos="6515280"/>
                    <a:tab algn="l" pos="7237440"/>
                    <a:tab algn="l" pos="796140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tabLst>
                    <a:tab algn="l" pos="0"/>
                    <a:tab algn="l" pos="723960"/>
                    <a:tab algn="l" pos="1447920"/>
                    <a:tab algn="l" pos="2171880"/>
                    <a:tab algn="l" pos="2894040"/>
                    <a:tab algn="l" pos="3618000"/>
                    <a:tab algn="l" pos="4343400"/>
                    <a:tab algn="l" pos="5067360"/>
                    <a:tab algn="l" pos="5791320"/>
                    <a:tab algn="l" pos="6515280"/>
                    <a:tab algn="l" pos="7237440"/>
                    <a:tab algn="l" pos="796140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4040"/>
                    <a:tab algn="l" pos="3618000"/>
                    <a:tab algn="l" pos="4343400"/>
                    <a:tab algn="l" pos="5067360"/>
                    <a:tab algn="l" pos="5791320"/>
                    <a:tab algn="l" pos="6515280"/>
                    <a:tab algn="l" pos="7237440"/>
                    <a:tab algn="l" pos="796140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74" name="Line 3"/>
            <p:cNvSpPr/>
            <p:nvPr/>
          </p:nvSpPr>
          <p:spPr>
            <a:xfrm>
              <a:off x="179280" y="115920"/>
              <a:ext cx="1440" cy="13687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5" name="Rectangle 1"/>
          <p:cNvSpPr/>
          <p:nvPr/>
        </p:nvSpPr>
        <p:spPr>
          <a:xfrm>
            <a:off x="1042920" y="1989000"/>
            <a:ext cx="7845480" cy="41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6" name="9 - Εικόνα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-541440" y="773280"/>
            <a:ext cx="9864720" cy="23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Calibri"/>
              </a:rPr>
              <a:t>Υποσυστήματα του σχολικού χώρου είναι:</a:t>
            </a:r>
            <a:br>
              <a:rPr sz="2800"/>
            </a:b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Calibri"/>
              </a:rPr>
              <a:t>η σχολική τάξη αλλά και η σχολική αυλή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8" name="Ομάδα 1"/>
          <p:cNvGrpSpPr/>
          <p:nvPr/>
        </p:nvGrpSpPr>
        <p:grpSpPr>
          <a:xfrm>
            <a:off x="0" y="115920"/>
            <a:ext cx="9144000" cy="6551640"/>
            <a:chOff x="0" y="115920"/>
            <a:chExt cx="9144000" cy="6551640"/>
          </a:xfrm>
        </p:grpSpPr>
        <p:grpSp>
          <p:nvGrpSpPr>
            <p:cNvPr id="1079" name="Ομάδα 1"/>
            <p:cNvGrpSpPr/>
            <p:nvPr/>
          </p:nvGrpSpPr>
          <p:grpSpPr>
            <a:xfrm>
              <a:off x="0" y="115920"/>
              <a:ext cx="9144000" cy="6551640"/>
              <a:chOff x="0" y="115920"/>
              <a:chExt cx="9144000" cy="6551640"/>
            </a:xfrm>
          </p:grpSpPr>
          <p:sp>
            <p:nvSpPr>
              <p:cNvPr id="1080" name="Line 4"/>
              <p:cNvSpPr/>
              <p:nvPr/>
            </p:nvSpPr>
            <p:spPr>
              <a:xfrm>
                <a:off x="179280" y="115920"/>
                <a:ext cx="8714520" cy="180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1" name="Rectangle 5"/>
              <p:cNvSpPr/>
              <p:nvPr/>
            </p:nvSpPr>
            <p:spPr>
              <a:xfrm>
                <a:off x="1692360" y="187560"/>
                <a:ext cx="6767640" cy="64764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Rectangle 3"/>
              <p:cNvSpPr/>
              <p:nvPr/>
            </p:nvSpPr>
            <p:spPr>
              <a:xfrm>
                <a:off x="0" y="5949000"/>
                <a:ext cx="9144000" cy="71856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tabLst>
                    <a:tab algn="l" pos="0"/>
                    <a:tab algn="l" pos="723960"/>
                    <a:tab algn="l" pos="1447920"/>
                    <a:tab algn="l" pos="2171880"/>
                    <a:tab algn="l" pos="2894040"/>
                    <a:tab algn="l" pos="3618000"/>
                    <a:tab algn="l" pos="4343400"/>
                    <a:tab algn="l" pos="5067360"/>
                    <a:tab algn="l" pos="5791320"/>
                    <a:tab algn="l" pos="6515280"/>
                    <a:tab algn="l" pos="7237440"/>
                    <a:tab algn="l" pos="796140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tabLst>
                    <a:tab algn="l" pos="0"/>
                    <a:tab algn="l" pos="723960"/>
                    <a:tab algn="l" pos="1447920"/>
                    <a:tab algn="l" pos="2171880"/>
                    <a:tab algn="l" pos="2894040"/>
                    <a:tab algn="l" pos="3618000"/>
                    <a:tab algn="l" pos="4343400"/>
                    <a:tab algn="l" pos="5067360"/>
                    <a:tab algn="l" pos="5791320"/>
                    <a:tab algn="l" pos="6515280"/>
                    <a:tab algn="l" pos="7237440"/>
                    <a:tab algn="l" pos="796140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4040"/>
                    <a:tab algn="l" pos="3618000"/>
                    <a:tab algn="l" pos="4343400"/>
                    <a:tab algn="l" pos="5067360"/>
                    <a:tab algn="l" pos="5791320"/>
                    <a:tab algn="l" pos="6515280"/>
                    <a:tab algn="l" pos="7237440"/>
                    <a:tab algn="l" pos="796140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4040"/>
                    <a:tab algn="l" pos="3618000"/>
                    <a:tab algn="l" pos="4343400"/>
                    <a:tab algn="l" pos="5067360"/>
                    <a:tab algn="l" pos="5791320"/>
                    <a:tab algn="l" pos="6515280"/>
                    <a:tab algn="l" pos="7237440"/>
                    <a:tab algn="l" pos="796140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tabLst>
                    <a:tab algn="l" pos="0"/>
                    <a:tab algn="l" pos="723960"/>
                    <a:tab algn="l" pos="1447920"/>
                    <a:tab algn="l" pos="2171880"/>
                    <a:tab algn="l" pos="2894040"/>
                    <a:tab algn="l" pos="3618000"/>
                    <a:tab algn="l" pos="4343400"/>
                    <a:tab algn="l" pos="5067360"/>
                    <a:tab algn="l" pos="5791320"/>
                    <a:tab algn="l" pos="6515280"/>
                    <a:tab algn="l" pos="7237440"/>
                    <a:tab algn="l" pos="796140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4040"/>
                    <a:tab algn="l" pos="3618000"/>
                    <a:tab algn="l" pos="4343400"/>
                    <a:tab algn="l" pos="5067360"/>
                    <a:tab algn="l" pos="5791320"/>
                    <a:tab algn="l" pos="6515280"/>
                    <a:tab algn="l" pos="7237440"/>
                    <a:tab algn="l" pos="796140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3" name="Line 3"/>
            <p:cNvSpPr/>
            <p:nvPr/>
          </p:nvSpPr>
          <p:spPr>
            <a:xfrm>
              <a:off x="179280" y="115920"/>
              <a:ext cx="1440" cy="13687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4" name="Rectangle 1"/>
          <p:cNvSpPr/>
          <p:nvPr/>
        </p:nvSpPr>
        <p:spPr>
          <a:xfrm>
            <a:off x="1042920" y="1989000"/>
            <a:ext cx="7845480" cy="41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5" name="9 - Εικόνα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  <p:pic>
        <p:nvPicPr>
          <p:cNvPr id="1086" name="Picture 4" descr="https://previews.123rf.com/images/tatianastulbo/tatianastulbo1610/tatianastulbo161000139/66828201-school-banners-teachers-by-blackboard-with-pupils-in-the-classroom-school-yard-and-dinner-hall-kids-.jpg"/>
          <p:cNvPicPr/>
          <p:nvPr/>
        </p:nvPicPr>
        <p:blipFill>
          <a:blip r:embed="rId4"/>
          <a:srcRect l="0" t="-34369" r="0" b="34378"/>
          <a:stretch/>
        </p:blipFill>
        <p:spPr>
          <a:xfrm>
            <a:off x="2050920" y="2786040"/>
            <a:ext cx="5040360" cy="308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414000" y="1212840"/>
            <a:ext cx="83516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Calibri"/>
              </a:rPr>
              <a:t>Κάθε σχολική τάξη </a:t>
            </a:r>
            <a:br>
              <a:rPr sz="2800"/>
            </a:br>
            <a:r>
              <a:rPr b="1" lang="el-GR" sz="2800" spc="-1" strike="noStrike">
                <a:solidFill>
                  <a:srgbClr val="000000"/>
                </a:solidFill>
                <a:latin typeface="Calibri"/>
              </a:rPr>
              <a:t>αποτελεί μια μικρή και αυτόνομη σχετικά μονάδα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Calibri"/>
              </a:rPr>
              <a:t> 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8" name="Ομάδα 1"/>
          <p:cNvGrpSpPr/>
          <p:nvPr/>
        </p:nvGrpSpPr>
        <p:grpSpPr>
          <a:xfrm>
            <a:off x="0" y="115920"/>
            <a:ext cx="9144000" cy="6551640"/>
            <a:chOff x="0" y="115920"/>
            <a:chExt cx="9144000" cy="6551640"/>
          </a:xfrm>
        </p:grpSpPr>
        <p:grpSp>
          <p:nvGrpSpPr>
            <p:cNvPr id="1089" name="Ομάδα 1"/>
            <p:cNvGrpSpPr/>
            <p:nvPr/>
          </p:nvGrpSpPr>
          <p:grpSpPr>
            <a:xfrm>
              <a:off x="0" y="115920"/>
              <a:ext cx="9144000" cy="6551640"/>
              <a:chOff x="0" y="115920"/>
              <a:chExt cx="9144000" cy="6551640"/>
            </a:xfrm>
          </p:grpSpPr>
          <p:sp>
            <p:nvSpPr>
              <p:cNvPr id="1090" name="Line 4"/>
              <p:cNvSpPr/>
              <p:nvPr/>
            </p:nvSpPr>
            <p:spPr>
              <a:xfrm>
                <a:off x="179280" y="115920"/>
                <a:ext cx="8714520" cy="180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1" name="Rectangle 5"/>
              <p:cNvSpPr/>
              <p:nvPr/>
            </p:nvSpPr>
            <p:spPr>
              <a:xfrm>
                <a:off x="1692360" y="187560"/>
                <a:ext cx="6767640" cy="64764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2" name="Rectangle 3"/>
              <p:cNvSpPr/>
              <p:nvPr/>
            </p:nvSpPr>
            <p:spPr>
              <a:xfrm>
                <a:off x="0" y="5949000"/>
                <a:ext cx="9144000" cy="71856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tabLst>
                    <a:tab algn="l" pos="0"/>
                    <a:tab algn="l" pos="723960"/>
                    <a:tab algn="l" pos="1447920"/>
                    <a:tab algn="l" pos="2171880"/>
                    <a:tab algn="l" pos="2894040"/>
                    <a:tab algn="l" pos="3618000"/>
                    <a:tab algn="l" pos="4343400"/>
                    <a:tab algn="l" pos="5067360"/>
                    <a:tab algn="l" pos="5791320"/>
                    <a:tab algn="l" pos="6515280"/>
                    <a:tab algn="l" pos="7237440"/>
                    <a:tab algn="l" pos="796140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tabLst>
                    <a:tab algn="l" pos="0"/>
                    <a:tab algn="l" pos="723960"/>
                    <a:tab algn="l" pos="1447920"/>
                    <a:tab algn="l" pos="2171880"/>
                    <a:tab algn="l" pos="2894040"/>
                    <a:tab algn="l" pos="3618000"/>
                    <a:tab algn="l" pos="4343400"/>
                    <a:tab algn="l" pos="5067360"/>
                    <a:tab algn="l" pos="5791320"/>
                    <a:tab algn="l" pos="6515280"/>
                    <a:tab algn="l" pos="7237440"/>
                    <a:tab algn="l" pos="796140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4040"/>
                    <a:tab algn="l" pos="3618000"/>
                    <a:tab algn="l" pos="4343400"/>
                    <a:tab algn="l" pos="5067360"/>
                    <a:tab algn="l" pos="5791320"/>
                    <a:tab algn="l" pos="6515280"/>
                    <a:tab algn="l" pos="7237440"/>
                    <a:tab algn="l" pos="796140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4040"/>
                    <a:tab algn="l" pos="3618000"/>
                    <a:tab algn="l" pos="4343400"/>
                    <a:tab algn="l" pos="5067360"/>
                    <a:tab algn="l" pos="5791320"/>
                    <a:tab algn="l" pos="6515280"/>
                    <a:tab algn="l" pos="7237440"/>
                    <a:tab algn="l" pos="796140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tabLst>
                    <a:tab algn="l" pos="0"/>
                    <a:tab algn="l" pos="723960"/>
                    <a:tab algn="l" pos="1447920"/>
                    <a:tab algn="l" pos="2171880"/>
                    <a:tab algn="l" pos="2894040"/>
                    <a:tab algn="l" pos="3618000"/>
                    <a:tab algn="l" pos="4343400"/>
                    <a:tab algn="l" pos="5067360"/>
                    <a:tab algn="l" pos="5791320"/>
                    <a:tab algn="l" pos="6515280"/>
                    <a:tab algn="l" pos="7237440"/>
                    <a:tab algn="l" pos="796140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4040"/>
                    <a:tab algn="l" pos="3618000"/>
                    <a:tab algn="l" pos="4343400"/>
                    <a:tab algn="l" pos="5067360"/>
                    <a:tab algn="l" pos="5791320"/>
                    <a:tab algn="l" pos="6515280"/>
                    <a:tab algn="l" pos="7237440"/>
                    <a:tab algn="l" pos="796140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93" name="Line 3"/>
            <p:cNvSpPr/>
            <p:nvPr/>
          </p:nvSpPr>
          <p:spPr>
            <a:xfrm>
              <a:off x="179280" y="115920"/>
              <a:ext cx="1440" cy="13687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4" name="Rectangle 1"/>
          <p:cNvSpPr/>
          <p:nvPr/>
        </p:nvSpPr>
        <p:spPr>
          <a:xfrm>
            <a:off x="1042920" y="1989000"/>
            <a:ext cx="7845480" cy="41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5" name="9 - Εικόνα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  <p:sp>
        <p:nvSpPr>
          <p:cNvPr id="1096" name="Ορθογώνιο 1"/>
          <p:cNvSpPr/>
          <p:nvPr/>
        </p:nvSpPr>
        <p:spPr>
          <a:xfrm>
            <a:off x="68400" y="2001960"/>
            <a:ext cx="8319960" cy="30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Calibri"/>
              </a:rPr>
              <a:t>Περιλαμβάνει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Calibri"/>
              </a:rPr>
              <a:t>την υλικοτεχνική υποδομή της αίθουσας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Calibri"/>
              </a:rPr>
              <a:t>τη χωροταξική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alibri"/>
              </a:rPr>
              <a:t>διάταξη των θρανίων και των επίπλων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Calibri"/>
              </a:rPr>
              <a:t>την ομάδα των μαθητώ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Calibri"/>
              </a:rPr>
              <a:t>τον υπεύθυνο εκπαιδευτικό της τάξη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l-GR" sz="2400" spc="-1" strike="noStrike">
                <a:solidFill>
                  <a:srgbClr val="000000"/>
                </a:solidFill>
                <a:latin typeface="Calibri"/>
              </a:rPr>
              <a:t>κα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Calibri"/>
              </a:rPr>
              <a:t>τις μεταξύ τους αλληλεπιδράσεις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l-GR" sz="2400" spc="-1" strike="noStrike">
                <a:solidFill>
                  <a:srgbClr val="000000"/>
                </a:solidFill>
                <a:latin typeface="Calibri"/>
              </a:rPr>
              <a:t>στο πλαίσιο της διδασκαλία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7" name="Picture 4" descr="http://cobbcast.cobbk12.org/wp-content/uploads/2010/08/firstday10_kemp_soley.jpg"/>
          <p:cNvPicPr/>
          <p:nvPr/>
        </p:nvPicPr>
        <p:blipFill>
          <a:blip r:embed="rId4"/>
          <a:stretch/>
        </p:blipFill>
        <p:spPr>
          <a:xfrm>
            <a:off x="5184720" y="3213000"/>
            <a:ext cx="3890880" cy="2597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774720" y="511200"/>
            <a:ext cx="7594560" cy="59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Calibri"/>
              </a:rPr>
              <a:t>Η οργάνωση και η διεύθυνση της σχολικής τάξης,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Calibri"/>
              </a:rPr>
              <a:t>επηρεάζει το εκπαιδευτικό έργο αφού διαδραματίζεται εντός του πλαισίου της.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Calibri"/>
              </a:rPr>
              <a:t>Επιστημονικά ο όρος είναι γνωστός ως «Οργάνωση &amp; Διοίκηση της Σχολικής Τάξης»  (</a:t>
            </a:r>
            <a:r>
              <a:rPr b="0" i="1" lang="el-GR" sz="2800" spc="-1" strike="noStrike">
                <a:solidFill>
                  <a:srgbClr val="000000"/>
                </a:solidFill>
                <a:latin typeface="Calibri"/>
              </a:rPr>
              <a:t>Classroom Management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9" name="Ομάδα 1"/>
          <p:cNvGrpSpPr/>
          <p:nvPr/>
        </p:nvGrpSpPr>
        <p:grpSpPr>
          <a:xfrm>
            <a:off x="0" y="115920"/>
            <a:ext cx="9144000" cy="6551640"/>
            <a:chOff x="0" y="115920"/>
            <a:chExt cx="9144000" cy="6551640"/>
          </a:xfrm>
        </p:grpSpPr>
        <p:grpSp>
          <p:nvGrpSpPr>
            <p:cNvPr id="1100" name="Ομάδα 1"/>
            <p:cNvGrpSpPr/>
            <p:nvPr/>
          </p:nvGrpSpPr>
          <p:grpSpPr>
            <a:xfrm>
              <a:off x="0" y="115920"/>
              <a:ext cx="9144000" cy="6551640"/>
              <a:chOff x="0" y="115920"/>
              <a:chExt cx="9144000" cy="6551640"/>
            </a:xfrm>
          </p:grpSpPr>
          <p:sp>
            <p:nvSpPr>
              <p:cNvPr id="1101" name="Line 4"/>
              <p:cNvSpPr/>
              <p:nvPr/>
            </p:nvSpPr>
            <p:spPr>
              <a:xfrm>
                <a:off x="179280" y="115920"/>
                <a:ext cx="8714520" cy="180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2" name="Rectangle 5"/>
              <p:cNvSpPr/>
              <p:nvPr/>
            </p:nvSpPr>
            <p:spPr>
              <a:xfrm>
                <a:off x="1692360" y="187560"/>
                <a:ext cx="6767640" cy="64764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3" name="Rectangle 3"/>
              <p:cNvSpPr/>
              <p:nvPr/>
            </p:nvSpPr>
            <p:spPr>
              <a:xfrm>
                <a:off x="0" y="5949000"/>
                <a:ext cx="9144000" cy="71856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tabLst>
                    <a:tab algn="l" pos="0"/>
                    <a:tab algn="l" pos="723960"/>
                    <a:tab algn="l" pos="1447920"/>
                    <a:tab algn="l" pos="2171880"/>
                    <a:tab algn="l" pos="2894040"/>
                    <a:tab algn="l" pos="3618000"/>
                    <a:tab algn="l" pos="4343400"/>
                    <a:tab algn="l" pos="5067360"/>
                    <a:tab algn="l" pos="5791320"/>
                    <a:tab algn="l" pos="6515280"/>
                    <a:tab algn="l" pos="7237440"/>
                    <a:tab algn="l" pos="796140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tabLst>
                    <a:tab algn="l" pos="0"/>
                    <a:tab algn="l" pos="723960"/>
                    <a:tab algn="l" pos="1447920"/>
                    <a:tab algn="l" pos="2171880"/>
                    <a:tab algn="l" pos="2894040"/>
                    <a:tab algn="l" pos="3618000"/>
                    <a:tab algn="l" pos="4343400"/>
                    <a:tab algn="l" pos="5067360"/>
                    <a:tab algn="l" pos="5791320"/>
                    <a:tab algn="l" pos="6515280"/>
                    <a:tab algn="l" pos="7237440"/>
                    <a:tab algn="l" pos="796140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4040"/>
                    <a:tab algn="l" pos="3618000"/>
                    <a:tab algn="l" pos="4343400"/>
                    <a:tab algn="l" pos="5067360"/>
                    <a:tab algn="l" pos="5791320"/>
                    <a:tab algn="l" pos="6515280"/>
                    <a:tab algn="l" pos="7237440"/>
                    <a:tab algn="l" pos="796140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4040"/>
                    <a:tab algn="l" pos="3618000"/>
                    <a:tab algn="l" pos="4343400"/>
                    <a:tab algn="l" pos="5067360"/>
                    <a:tab algn="l" pos="5791320"/>
                    <a:tab algn="l" pos="6515280"/>
                    <a:tab algn="l" pos="7237440"/>
                    <a:tab algn="l" pos="796140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tabLst>
                    <a:tab algn="l" pos="0"/>
                    <a:tab algn="l" pos="723960"/>
                    <a:tab algn="l" pos="1447920"/>
                    <a:tab algn="l" pos="2171880"/>
                    <a:tab algn="l" pos="2894040"/>
                    <a:tab algn="l" pos="3618000"/>
                    <a:tab algn="l" pos="4343400"/>
                    <a:tab algn="l" pos="5067360"/>
                    <a:tab algn="l" pos="5791320"/>
                    <a:tab algn="l" pos="6515280"/>
                    <a:tab algn="l" pos="7237440"/>
                    <a:tab algn="l" pos="796140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4040"/>
                    <a:tab algn="l" pos="3618000"/>
                    <a:tab algn="l" pos="4343400"/>
                    <a:tab algn="l" pos="5067360"/>
                    <a:tab algn="l" pos="5791320"/>
                    <a:tab algn="l" pos="6515280"/>
                    <a:tab algn="l" pos="7237440"/>
                    <a:tab algn="l" pos="796140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4" name="Line 3"/>
            <p:cNvSpPr/>
            <p:nvPr/>
          </p:nvSpPr>
          <p:spPr>
            <a:xfrm>
              <a:off x="179280" y="115920"/>
              <a:ext cx="1440" cy="13687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5" name="Rectangle 1"/>
          <p:cNvSpPr/>
          <p:nvPr/>
        </p:nvSpPr>
        <p:spPr>
          <a:xfrm>
            <a:off x="1042920" y="1989000"/>
            <a:ext cx="7845480" cy="41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6" name="9 - Εικόνα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  <p:pic>
        <p:nvPicPr>
          <p:cNvPr id="1107" name="Picture 2" descr="https://www.germantownacademy.net/uploaded/images/Blogs/Crafted/slide-13_orig.jpg"/>
          <p:cNvPicPr/>
          <p:nvPr/>
        </p:nvPicPr>
        <p:blipFill>
          <a:blip r:embed="rId4"/>
          <a:stretch/>
        </p:blipFill>
        <p:spPr>
          <a:xfrm>
            <a:off x="3276720" y="2487600"/>
            <a:ext cx="2663640" cy="199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8" name="Picture 4" descr="http://tlceducationalsolutions.com/wp-content/uploads/2016/08/Class-Mgmt-Wordle.png"/>
          <p:cNvPicPr/>
          <p:nvPr/>
        </p:nvPicPr>
        <p:blipFill>
          <a:blip r:embed="rId1"/>
          <a:stretch/>
        </p:blipFill>
        <p:spPr>
          <a:xfrm>
            <a:off x="4583160" y="1150920"/>
            <a:ext cx="4141800" cy="1555920"/>
          </a:xfrm>
          <a:prstGeom prst="rect">
            <a:avLst/>
          </a:prstGeom>
          <a:ln w="0">
            <a:noFill/>
          </a:ln>
        </p:spPr>
      </p:pic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119160" y="1348920"/>
            <a:ext cx="4759200" cy="455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Calibri"/>
              </a:rPr>
              <a:t>Πρόκειται για μια σειρά  από αναγκαίες ενέργειες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Calibri"/>
              </a:rPr>
              <a:t>και δραστηριότητες των εκπαιδευτικών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Calibri"/>
              </a:rPr>
              <a:t>για τη δημιουργία και τη διατήρηση του μαθησιακού περιβάλλοντος μέσα στο οποίο επιτυγχάνεται η μάθηση.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0" name="Ομάδα 1"/>
          <p:cNvGrpSpPr/>
          <p:nvPr/>
        </p:nvGrpSpPr>
        <p:grpSpPr>
          <a:xfrm>
            <a:off x="0" y="115920"/>
            <a:ext cx="9144000" cy="6551640"/>
            <a:chOff x="0" y="115920"/>
            <a:chExt cx="9144000" cy="6551640"/>
          </a:xfrm>
        </p:grpSpPr>
        <p:grpSp>
          <p:nvGrpSpPr>
            <p:cNvPr id="1111" name="Ομάδα 1"/>
            <p:cNvGrpSpPr/>
            <p:nvPr/>
          </p:nvGrpSpPr>
          <p:grpSpPr>
            <a:xfrm>
              <a:off x="0" y="115920"/>
              <a:ext cx="9144000" cy="6551640"/>
              <a:chOff x="0" y="115920"/>
              <a:chExt cx="9144000" cy="6551640"/>
            </a:xfrm>
          </p:grpSpPr>
          <p:sp>
            <p:nvSpPr>
              <p:cNvPr id="1112" name="Line 4"/>
              <p:cNvSpPr/>
              <p:nvPr/>
            </p:nvSpPr>
            <p:spPr>
              <a:xfrm>
                <a:off x="179280" y="115920"/>
                <a:ext cx="8714520" cy="180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3" name="Rectangle 5"/>
              <p:cNvSpPr/>
              <p:nvPr/>
            </p:nvSpPr>
            <p:spPr>
              <a:xfrm>
                <a:off x="1692360" y="187560"/>
                <a:ext cx="6767640" cy="6476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4" name="Rectangle 3"/>
              <p:cNvSpPr/>
              <p:nvPr/>
            </p:nvSpPr>
            <p:spPr>
              <a:xfrm>
                <a:off x="0" y="5949000"/>
                <a:ext cx="9144000" cy="718560"/>
              </a:xfrm>
              <a:prstGeom prst="rect">
                <a:avLst/>
              </a:prstGeom>
              <a:blipFill rotWithShape="0">
                <a:blip r:embed="rId3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tabLst>
                    <a:tab algn="l" pos="0"/>
                    <a:tab algn="l" pos="723960"/>
                    <a:tab algn="l" pos="1447920"/>
                    <a:tab algn="l" pos="2171880"/>
                    <a:tab algn="l" pos="2894040"/>
                    <a:tab algn="l" pos="3618000"/>
                    <a:tab algn="l" pos="4343400"/>
                    <a:tab algn="l" pos="5067360"/>
                    <a:tab algn="l" pos="5791320"/>
                    <a:tab algn="l" pos="6515280"/>
                    <a:tab algn="l" pos="7237440"/>
                    <a:tab algn="l" pos="796140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tabLst>
                    <a:tab algn="l" pos="0"/>
                    <a:tab algn="l" pos="723960"/>
                    <a:tab algn="l" pos="1447920"/>
                    <a:tab algn="l" pos="2171880"/>
                    <a:tab algn="l" pos="2894040"/>
                    <a:tab algn="l" pos="3618000"/>
                    <a:tab algn="l" pos="4343400"/>
                    <a:tab algn="l" pos="5067360"/>
                    <a:tab algn="l" pos="5791320"/>
                    <a:tab algn="l" pos="6515280"/>
                    <a:tab algn="l" pos="7237440"/>
                    <a:tab algn="l" pos="796140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4040"/>
                    <a:tab algn="l" pos="3618000"/>
                    <a:tab algn="l" pos="4343400"/>
                    <a:tab algn="l" pos="5067360"/>
                    <a:tab algn="l" pos="5791320"/>
                    <a:tab algn="l" pos="6515280"/>
                    <a:tab algn="l" pos="7237440"/>
                    <a:tab algn="l" pos="796140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4040"/>
                    <a:tab algn="l" pos="3618000"/>
                    <a:tab algn="l" pos="4343400"/>
                    <a:tab algn="l" pos="5067360"/>
                    <a:tab algn="l" pos="5791320"/>
                    <a:tab algn="l" pos="6515280"/>
                    <a:tab algn="l" pos="7237440"/>
                    <a:tab algn="l" pos="796140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tabLst>
                    <a:tab algn="l" pos="0"/>
                    <a:tab algn="l" pos="723960"/>
                    <a:tab algn="l" pos="1447920"/>
                    <a:tab algn="l" pos="2171880"/>
                    <a:tab algn="l" pos="2894040"/>
                    <a:tab algn="l" pos="3618000"/>
                    <a:tab algn="l" pos="4343400"/>
                    <a:tab algn="l" pos="5067360"/>
                    <a:tab algn="l" pos="5791320"/>
                    <a:tab algn="l" pos="6515280"/>
                    <a:tab algn="l" pos="7237440"/>
                    <a:tab algn="l" pos="796140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4040"/>
                    <a:tab algn="l" pos="3618000"/>
                    <a:tab algn="l" pos="4343400"/>
                    <a:tab algn="l" pos="5067360"/>
                    <a:tab algn="l" pos="5791320"/>
                    <a:tab algn="l" pos="6515280"/>
                    <a:tab algn="l" pos="7237440"/>
                    <a:tab algn="l" pos="796140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5" name="Line 3"/>
            <p:cNvSpPr/>
            <p:nvPr/>
          </p:nvSpPr>
          <p:spPr>
            <a:xfrm>
              <a:off x="179280" y="115920"/>
              <a:ext cx="1440" cy="13687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6" name="Rectangle 1"/>
          <p:cNvSpPr/>
          <p:nvPr/>
        </p:nvSpPr>
        <p:spPr>
          <a:xfrm>
            <a:off x="395280" y="1916280"/>
            <a:ext cx="8493120" cy="41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7" name="9 - Εικόνα" descr=""/>
          <p:cNvPicPr/>
          <p:nvPr/>
        </p:nvPicPr>
        <p:blipFill>
          <a:blip r:embed="rId4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  <p:pic>
        <p:nvPicPr>
          <p:cNvPr id="1118" name="Picture 2" descr="http://www.fresh-education.gr/wp-content/uploads/2020/07/eclass-300x149.jpg"/>
          <p:cNvPicPr/>
          <p:nvPr/>
        </p:nvPicPr>
        <p:blipFill>
          <a:blip r:embed="rId5"/>
          <a:srcRect l="0" t="0" r="0" b="14967"/>
          <a:stretch/>
        </p:blipFill>
        <p:spPr>
          <a:xfrm>
            <a:off x="5075280" y="2925720"/>
            <a:ext cx="3813120" cy="288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324000" y="691920"/>
            <a:ext cx="8642160" cy="37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Calibri"/>
              </a:rPr>
              <a:t>Κάποιοι ερευνητές (Ματσαγγούρας, 2008) συγκαταλέγουν την Οργάνωση &amp; Διοίκηση της Σχολικής Τάξης στην επιστήμη της </a:t>
            </a:r>
            <a:r>
              <a:rPr b="1" lang="el-GR" sz="2800" spc="-1" strike="noStrike">
                <a:solidFill>
                  <a:srgbClr val="000000"/>
                </a:solidFill>
                <a:latin typeface="Calibri"/>
              </a:rPr>
              <a:t>Διδακτικής</a:t>
            </a:r>
            <a:r>
              <a:rPr b="0" lang="el-GR" sz="2800" spc="-1" strike="noStrike">
                <a:solidFill>
                  <a:srgbClr val="000000"/>
                </a:solidFill>
                <a:latin typeface="Calibri"/>
              </a:rPr>
              <a:t> που ασχολείται με την εξέταση της τάξης ως χώρο, ως κοινωνική ομάδα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Calibri"/>
              </a:rPr>
              <a:t>και ως τρόπο άσκησης της σχολικής πειθαρχία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0" name="Ομάδα 1"/>
          <p:cNvGrpSpPr/>
          <p:nvPr/>
        </p:nvGrpSpPr>
        <p:grpSpPr>
          <a:xfrm>
            <a:off x="0" y="115920"/>
            <a:ext cx="9144000" cy="6551640"/>
            <a:chOff x="0" y="115920"/>
            <a:chExt cx="9144000" cy="6551640"/>
          </a:xfrm>
        </p:grpSpPr>
        <p:grpSp>
          <p:nvGrpSpPr>
            <p:cNvPr id="1121" name="Ομάδα 1"/>
            <p:cNvGrpSpPr/>
            <p:nvPr/>
          </p:nvGrpSpPr>
          <p:grpSpPr>
            <a:xfrm>
              <a:off x="0" y="115920"/>
              <a:ext cx="9144000" cy="6551640"/>
              <a:chOff x="0" y="115920"/>
              <a:chExt cx="9144000" cy="6551640"/>
            </a:xfrm>
          </p:grpSpPr>
          <p:sp>
            <p:nvSpPr>
              <p:cNvPr id="1122" name="Line 4"/>
              <p:cNvSpPr/>
              <p:nvPr/>
            </p:nvSpPr>
            <p:spPr>
              <a:xfrm>
                <a:off x="179280" y="115920"/>
                <a:ext cx="8714520" cy="180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3" name="Rectangle 5"/>
              <p:cNvSpPr/>
              <p:nvPr/>
            </p:nvSpPr>
            <p:spPr>
              <a:xfrm>
                <a:off x="1692360" y="187560"/>
                <a:ext cx="6767640" cy="64764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4" name="Rectangle 3"/>
              <p:cNvSpPr/>
              <p:nvPr/>
            </p:nvSpPr>
            <p:spPr>
              <a:xfrm>
                <a:off x="0" y="5949000"/>
                <a:ext cx="9144000" cy="71856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tabLst>
                    <a:tab algn="l" pos="0"/>
                    <a:tab algn="l" pos="723960"/>
                    <a:tab algn="l" pos="1447920"/>
                    <a:tab algn="l" pos="2171880"/>
                    <a:tab algn="l" pos="2894040"/>
                    <a:tab algn="l" pos="3618000"/>
                    <a:tab algn="l" pos="4343400"/>
                    <a:tab algn="l" pos="5067360"/>
                    <a:tab algn="l" pos="5791320"/>
                    <a:tab algn="l" pos="6515280"/>
                    <a:tab algn="l" pos="7237440"/>
                    <a:tab algn="l" pos="796140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tabLst>
                    <a:tab algn="l" pos="0"/>
                    <a:tab algn="l" pos="723960"/>
                    <a:tab algn="l" pos="1447920"/>
                    <a:tab algn="l" pos="2171880"/>
                    <a:tab algn="l" pos="2894040"/>
                    <a:tab algn="l" pos="3618000"/>
                    <a:tab algn="l" pos="4343400"/>
                    <a:tab algn="l" pos="5067360"/>
                    <a:tab algn="l" pos="5791320"/>
                    <a:tab algn="l" pos="6515280"/>
                    <a:tab algn="l" pos="7237440"/>
                    <a:tab algn="l" pos="796140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4040"/>
                    <a:tab algn="l" pos="3618000"/>
                    <a:tab algn="l" pos="4343400"/>
                    <a:tab algn="l" pos="5067360"/>
                    <a:tab algn="l" pos="5791320"/>
                    <a:tab algn="l" pos="6515280"/>
                    <a:tab algn="l" pos="7237440"/>
                    <a:tab algn="l" pos="796140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4040"/>
                    <a:tab algn="l" pos="3618000"/>
                    <a:tab algn="l" pos="4343400"/>
                    <a:tab algn="l" pos="5067360"/>
                    <a:tab algn="l" pos="5791320"/>
                    <a:tab algn="l" pos="6515280"/>
                    <a:tab algn="l" pos="7237440"/>
                    <a:tab algn="l" pos="796140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tabLst>
                    <a:tab algn="l" pos="0"/>
                    <a:tab algn="l" pos="723960"/>
                    <a:tab algn="l" pos="1447920"/>
                    <a:tab algn="l" pos="2171880"/>
                    <a:tab algn="l" pos="2894040"/>
                    <a:tab algn="l" pos="3618000"/>
                    <a:tab algn="l" pos="4343400"/>
                    <a:tab algn="l" pos="5067360"/>
                    <a:tab algn="l" pos="5791320"/>
                    <a:tab algn="l" pos="6515280"/>
                    <a:tab algn="l" pos="7237440"/>
                    <a:tab algn="l" pos="796140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4040"/>
                    <a:tab algn="l" pos="3618000"/>
                    <a:tab algn="l" pos="4343400"/>
                    <a:tab algn="l" pos="5067360"/>
                    <a:tab algn="l" pos="5791320"/>
                    <a:tab algn="l" pos="6515280"/>
                    <a:tab algn="l" pos="7237440"/>
                    <a:tab algn="l" pos="796140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25" name="Line 3"/>
            <p:cNvSpPr/>
            <p:nvPr/>
          </p:nvSpPr>
          <p:spPr>
            <a:xfrm>
              <a:off x="179280" y="115920"/>
              <a:ext cx="1440" cy="13687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6" name="Rectangle 1"/>
          <p:cNvSpPr/>
          <p:nvPr/>
        </p:nvSpPr>
        <p:spPr>
          <a:xfrm>
            <a:off x="395280" y="1916280"/>
            <a:ext cx="8493120" cy="41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7" name="9 - Εικόνα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250920" y="1228320"/>
            <a:ext cx="525456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Calibri"/>
              </a:rPr>
              <a:t>Ο πιο αποδεκτός ορισμός της «Οργάνωσης &amp; Διοίκησης της Σχολικής Τάξης» από την επιστημονική/ερευνητική κοινότητα φαίνεται να είναι αυτός των Wong &amp; Wong (1991) και συγκαταλέγεται στον κλάδο της Μεθοδολογίας της Διδακτικής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9" name="Ομάδα 1"/>
          <p:cNvGrpSpPr/>
          <p:nvPr/>
        </p:nvGrpSpPr>
        <p:grpSpPr>
          <a:xfrm>
            <a:off x="0" y="115920"/>
            <a:ext cx="9144000" cy="6551640"/>
            <a:chOff x="0" y="115920"/>
            <a:chExt cx="9144000" cy="6551640"/>
          </a:xfrm>
        </p:grpSpPr>
        <p:grpSp>
          <p:nvGrpSpPr>
            <p:cNvPr id="1130" name="Ομάδα 1"/>
            <p:cNvGrpSpPr/>
            <p:nvPr/>
          </p:nvGrpSpPr>
          <p:grpSpPr>
            <a:xfrm>
              <a:off x="0" y="115920"/>
              <a:ext cx="9144000" cy="6551640"/>
              <a:chOff x="0" y="115920"/>
              <a:chExt cx="9144000" cy="6551640"/>
            </a:xfrm>
          </p:grpSpPr>
          <p:sp>
            <p:nvSpPr>
              <p:cNvPr id="1131" name="Line 4"/>
              <p:cNvSpPr/>
              <p:nvPr/>
            </p:nvSpPr>
            <p:spPr>
              <a:xfrm>
                <a:off x="179280" y="115920"/>
                <a:ext cx="8714520" cy="180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2" name="Rectangle 5"/>
              <p:cNvSpPr/>
              <p:nvPr/>
            </p:nvSpPr>
            <p:spPr>
              <a:xfrm>
                <a:off x="1692360" y="187560"/>
                <a:ext cx="6767640" cy="64764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3" name="Rectangle 3"/>
              <p:cNvSpPr/>
              <p:nvPr/>
            </p:nvSpPr>
            <p:spPr>
              <a:xfrm>
                <a:off x="0" y="5949000"/>
                <a:ext cx="9144000" cy="71856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tabLst>
                    <a:tab algn="l" pos="0"/>
                    <a:tab algn="l" pos="723960"/>
                    <a:tab algn="l" pos="1447920"/>
                    <a:tab algn="l" pos="2171880"/>
                    <a:tab algn="l" pos="2894040"/>
                    <a:tab algn="l" pos="3618000"/>
                    <a:tab algn="l" pos="4343400"/>
                    <a:tab algn="l" pos="5067360"/>
                    <a:tab algn="l" pos="5791320"/>
                    <a:tab algn="l" pos="6515280"/>
                    <a:tab algn="l" pos="7237440"/>
                    <a:tab algn="l" pos="796140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tabLst>
                    <a:tab algn="l" pos="0"/>
                    <a:tab algn="l" pos="723960"/>
                    <a:tab algn="l" pos="1447920"/>
                    <a:tab algn="l" pos="2171880"/>
                    <a:tab algn="l" pos="2894040"/>
                    <a:tab algn="l" pos="3618000"/>
                    <a:tab algn="l" pos="4343400"/>
                    <a:tab algn="l" pos="5067360"/>
                    <a:tab algn="l" pos="5791320"/>
                    <a:tab algn="l" pos="6515280"/>
                    <a:tab algn="l" pos="7237440"/>
                    <a:tab algn="l" pos="796140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4040"/>
                    <a:tab algn="l" pos="3618000"/>
                    <a:tab algn="l" pos="4343400"/>
                    <a:tab algn="l" pos="5067360"/>
                    <a:tab algn="l" pos="5791320"/>
                    <a:tab algn="l" pos="6515280"/>
                    <a:tab algn="l" pos="7237440"/>
                    <a:tab algn="l" pos="796140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4040"/>
                    <a:tab algn="l" pos="3618000"/>
                    <a:tab algn="l" pos="4343400"/>
                    <a:tab algn="l" pos="5067360"/>
                    <a:tab algn="l" pos="5791320"/>
                    <a:tab algn="l" pos="6515280"/>
                    <a:tab algn="l" pos="7237440"/>
                    <a:tab algn="l" pos="796140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tabLst>
                    <a:tab algn="l" pos="0"/>
                    <a:tab algn="l" pos="723960"/>
                    <a:tab algn="l" pos="1447920"/>
                    <a:tab algn="l" pos="2171880"/>
                    <a:tab algn="l" pos="2894040"/>
                    <a:tab algn="l" pos="3618000"/>
                    <a:tab algn="l" pos="4343400"/>
                    <a:tab algn="l" pos="5067360"/>
                    <a:tab algn="l" pos="5791320"/>
                    <a:tab algn="l" pos="6515280"/>
                    <a:tab algn="l" pos="7237440"/>
                    <a:tab algn="l" pos="796140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4040"/>
                    <a:tab algn="l" pos="3618000"/>
                    <a:tab algn="l" pos="4343400"/>
                    <a:tab algn="l" pos="5067360"/>
                    <a:tab algn="l" pos="5791320"/>
                    <a:tab algn="l" pos="6515280"/>
                    <a:tab algn="l" pos="7237440"/>
                    <a:tab algn="l" pos="796140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34" name="Line 3"/>
            <p:cNvSpPr/>
            <p:nvPr/>
          </p:nvSpPr>
          <p:spPr>
            <a:xfrm>
              <a:off x="179280" y="115920"/>
              <a:ext cx="1440" cy="13687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5" name="Rectangle 1"/>
          <p:cNvSpPr/>
          <p:nvPr/>
        </p:nvSpPr>
        <p:spPr>
          <a:xfrm>
            <a:off x="1042920" y="1989000"/>
            <a:ext cx="7845480" cy="41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6" name="9 - Εικόνα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  <p:pic>
        <p:nvPicPr>
          <p:cNvPr id="1137" name="Picture 1" descr=""/>
          <p:cNvPicPr/>
          <p:nvPr/>
        </p:nvPicPr>
        <p:blipFill>
          <a:blip r:embed="rId4"/>
          <a:stretch/>
        </p:blipFill>
        <p:spPr>
          <a:xfrm>
            <a:off x="5451480" y="1138320"/>
            <a:ext cx="3692520" cy="416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573120" y="433080"/>
            <a:ext cx="857088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Calibri"/>
              </a:rPr>
              <a:t>Σύμφωνα, λοιπόν με τους Wong &amp; Wong,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Calibri"/>
              </a:rPr>
              <a:t> η «Οργάνωση &amp; Διοίκηση της Σχολικής Τάξης» αντιπροσωπεύει όλες τις ενέργειες του εκπαιδευτικού για να οργανώσει τους μαθητές,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Calibri"/>
              </a:rPr>
              <a:t>τον χώρο, τον χρόνο και το υλικό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Calibri"/>
              </a:rPr>
              <a:t>έτσι ώστε ο διδακτικός σχεδιασμός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Calibri"/>
              </a:rPr>
              <a:t>και η εκπαίδευση των μαθητών να επιτευχθού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9" name="Ομάδα 1"/>
          <p:cNvGrpSpPr/>
          <p:nvPr/>
        </p:nvGrpSpPr>
        <p:grpSpPr>
          <a:xfrm>
            <a:off x="0" y="115920"/>
            <a:ext cx="9144000" cy="6551640"/>
            <a:chOff x="0" y="115920"/>
            <a:chExt cx="9144000" cy="6551640"/>
          </a:xfrm>
        </p:grpSpPr>
        <p:grpSp>
          <p:nvGrpSpPr>
            <p:cNvPr id="1140" name="Ομάδα 1"/>
            <p:cNvGrpSpPr/>
            <p:nvPr/>
          </p:nvGrpSpPr>
          <p:grpSpPr>
            <a:xfrm>
              <a:off x="0" y="115920"/>
              <a:ext cx="9144000" cy="6551640"/>
              <a:chOff x="0" y="115920"/>
              <a:chExt cx="9144000" cy="6551640"/>
            </a:xfrm>
          </p:grpSpPr>
          <p:sp>
            <p:nvSpPr>
              <p:cNvPr id="1141" name="Line 4"/>
              <p:cNvSpPr/>
              <p:nvPr/>
            </p:nvSpPr>
            <p:spPr>
              <a:xfrm>
                <a:off x="179280" y="115920"/>
                <a:ext cx="8714520" cy="180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2" name="Rectangle 5"/>
              <p:cNvSpPr/>
              <p:nvPr/>
            </p:nvSpPr>
            <p:spPr>
              <a:xfrm>
                <a:off x="1692360" y="187560"/>
                <a:ext cx="6767640" cy="64764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3" name="Rectangle 3"/>
              <p:cNvSpPr/>
              <p:nvPr/>
            </p:nvSpPr>
            <p:spPr>
              <a:xfrm>
                <a:off x="0" y="5949000"/>
                <a:ext cx="9144000" cy="71856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tabLst>
                    <a:tab algn="l" pos="0"/>
                    <a:tab algn="l" pos="723960"/>
                    <a:tab algn="l" pos="1447920"/>
                    <a:tab algn="l" pos="2171880"/>
                    <a:tab algn="l" pos="2894040"/>
                    <a:tab algn="l" pos="3618000"/>
                    <a:tab algn="l" pos="4343400"/>
                    <a:tab algn="l" pos="5067360"/>
                    <a:tab algn="l" pos="5791320"/>
                    <a:tab algn="l" pos="6515280"/>
                    <a:tab algn="l" pos="7237440"/>
                    <a:tab algn="l" pos="796140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tabLst>
                    <a:tab algn="l" pos="0"/>
                    <a:tab algn="l" pos="723960"/>
                    <a:tab algn="l" pos="1447920"/>
                    <a:tab algn="l" pos="2171880"/>
                    <a:tab algn="l" pos="2894040"/>
                    <a:tab algn="l" pos="3618000"/>
                    <a:tab algn="l" pos="4343400"/>
                    <a:tab algn="l" pos="5067360"/>
                    <a:tab algn="l" pos="5791320"/>
                    <a:tab algn="l" pos="6515280"/>
                    <a:tab algn="l" pos="7237440"/>
                    <a:tab algn="l" pos="796140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4040"/>
                    <a:tab algn="l" pos="3618000"/>
                    <a:tab algn="l" pos="4343400"/>
                    <a:tab algn="l" pos="5067360"/>
                    <a:tab algn="l" pos="5791320"/>
                    <a:tab algn="l" pos="6515280"/>
                    <a:tab algn="l" pos="7237440"/>
                    <a:tab algn="l" pos="796140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4040"/>
                    <a:tab algn="l" pos="3618000"/>
                    <a:tab algn="l" pos="4343400"/>
                    <a:tab algn="l" pos="5067360"/>
                    <a:tab algn="l" pos="5791320"/>
                    <a:tab algn="l" pos="6515280"/>
                    <a:tab algn="l" pos="7237440"/>
                    <a:tab algn="l" pos="796140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tabLst>
                    <a:tab algn="l" pos="0"/>
                    <a:tab algn="l" pos="723960"/>
                    <a:tab algn="l" pos="1447920"/>
                    <a:tab algn="l" pos="2171880"/>
                    <a:tab algn="l" pos="2894040"/>
                    <a:tab algn="l" pos="3618000"/>
                    <a:tab algn="l" pos="4343400"/>
                    <a:tab algn="l" pos="5067360"/>
                    <a:tab algn="l" pos="5791320"/>
                    <a:tab algn="l" pos="6515280"/>
                    <a:tab algn="l" pos="7237440"/>
                    <a:tab algn="l" pos="796140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4040"/>
                    <a:tab algn="l" pos="3618000"/>
                    <a:tab algn="l" pos="4343400"/>
                    <a:tab algn="l" pos="5067360"/>
                    <a:tab algn="l" pos="5791320"/>
                    <a:tab algn="l" pos="6515280"/>
                    <a:tab algn="l" pos="7237440"/>
                    <a:tab algn="l" pos="796140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44" name="Line 3"/>
            <p:cNvSpPr/>
            <p:nvPr/>
          </p:nvSpPr>
          <p:spPr>
            <a:xfrm>
              <a:off x="179280" y="115920"/>
              <a:ext cx="1440" cy="13687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5" name="Rectangle 1"/>
          <p:cNvSpPr/>
          <p:nvPr/>
        </p:nvSpPr>
        <p:spPr>
          <a:xfrm>
            <a:off x="1042920" y="1989000"/>
            <a:ext cx="7845480" cy="41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6" name="9 - Εικόνα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  <p:pic>
        <p:nvPicPr>
          <p:cNvPr id="1147" name="Picture 1" descr=""/>
          <p:cNvPicPr/>
          <p:nvPr/>
        </p:nvPicPr>
        <p:blipFill>
          <a:blip r:embed="rId4"/>
          <a:stretch/>
        </p:blipFill>
        <p:spPr>
          <a:xfrm>
            <a:off x="2195640" y="3975120"/>
            <a:ext cx="5184720" cy="1773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9-22T17:32:59Z</dcterms:created>
  <dc:creator>Dimitra</dc:creator>
  <dc:description/>
  <dc:language>en-US</dc:language>
  <cp:lastModifiedBy>Admin</cp:lastModifiedBy>
  <dcterms:modified xsi:type="dcterms:W3CDTF">2025-10-16T10:41:18Z</dcterms:modified>
  <cp:revision>19</cp:revision>
  <dc:subject/>
  <dc:title>Παρουσίαση του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3</vt:r8>
  </property>
  <property fmtid="{D5CDD505-2E9C-101B-9397-08002B2CF9AE}" pid="3" name="PresentationFormat">
    <vt:lpwstr>Προβολή στην οθόνη (4:3)</vt:lpwstr>
  </property>
  <property fmtid="{D5CDD505-2E9C-101B-9397-08002B2CF9AE}" pid="4" name="Slides">
    <vt:r8>15</vt:r8>
  </property>
</Properties>
</file>